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60F-D622-48B9-8031-0A1258E9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82A-B900-4C31-80C6-AB671816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FE0-E9CD-4BF1-AD30-96920843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563-76C3-42E8-A038-5AD5D2A6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AC7-5FE0-4037-9C4D-51D8C79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41C-52C6-44A3-907E-95EFDDFB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43D-B9DE-4FEC-8A6E-E7C620D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BF-2C18-4E0F-9C11-8B834EF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A8-5FB3-48F0-B72C-28BA90B9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0D9-436B-4F4A-BA49-B25968B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7B3-D588-4A5B-A5A8-0979F24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EDC-6849-457C-AC58-EEE0D77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98B8-B95E-47E5-AC61-5CE3E753C8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79640" y="404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里的景色多美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-2479680" y="-69840"/>
            <a:ext cx="4606920" cy="38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f81bd"/>
                </a:solidFill>
                <a:latin typeface="楷体_GB2312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4f81bd"/>
              </a:solidFill>
              <a:latin typeface="楷体_GB2312"/>
              <a:ea typeface="楷体_GB2312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2700360" y="1044720"/>
            <a:ext cx="792000" cy="79200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0" y="46"/>
                </a:moveTo>
                <a:lnTo>
                  <a:pt x="181" y="318"/>
                </a:lnTo>
                <a:lnTo>
                  <a:pt x="317" y="454"/>
                </a:lnTo>
                <a:lnTo>
                  <a:pt x="363" y="499"/>
                </a:lnTo>
                <a:lnTo>
                  <a:pt x="408" y="499"/>
                </a:lnTo>
                <a:lnTo>
                  <a:pt x="499" y="408"/>
                </a:lnTo>
                <a:lnTo>
                  <a:pt x="499" y="318"/>
                </a:lnTo>
                <a:lnTo>
                  <a:pt x="453" y="227"/>
                </a:lnTo>
                <a:lnTo>
                  <a:pt x="363" y="136"/>
                </a:lnTo>
                <a:lnTo>
                  <a:pt x="181" y="46"/>
                </a:lnTo>
                <a:lnTo>
                  <a:pt x="45" y="0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2124000" y="2313000"/>
            <a:ext cx="792360" cy="647640"/>
          </a:xfrm>
          <a:custGeom>
            <a:avLst/>
            <a:gdLst/>
            <a:ahLst/>
            <a:rect l="l" t="t" r="r" b="b"/>
            <a:pathLst>
              <a:path w="499" h="408">
                <a:moveTo>
                  <a:pt x="0" y="0"/>
                </a:moveTo>
                <a:lnTo>
                  <a:pt x="91" y="0"/>
                </a:lnTo>
                <a:lnTo>
                  <a:pt x="227" y="0"/>
                </a:lnTo>
                <a:lnTo>
                  <a:pt x="363" y="46"/>
                </a:lnTo>
                <a:lnTo>
                  <a:pt x="454" y="91"/>
                </a:lnTo>
                <a:lnTo>
                  <a:pt x="499" y="227"/>
                </a:lnTo>
                <a:lnTo>
                  <a:pt x="499" y="363"/>
                </a:lnTo>
                <a:lnTo>
                  <a:pt x="408" y="408"/>
                </a:lnTo>
                <a:lnTo>
                  <a:pt x="227" y="272"/>
                </a:lnTo>
                <a:lnTo>
                  <a:pt x="46" y="91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>
            <a:off x="2127240" y="3030480"/>
            <a:ext cx="1368360" cy="1873440"/>
          </a:xfrm>
          <a:custGeom>
            <a:avLst/>
            <a:gdLst/>
            <a:ahLst/>
            <a:rect l="l" t="t" r="r" b="b"/>
            <a:pathLst>
              <a:path w="862" h="1180">
                <a:moveTo>
                  <a:pt x="862" y="0"/>
                </a:moveTo>
                <a:lnTo>
                  <a:pt x="816" y="0"/>
                </a:lnTo>
                <a:lnTo>
                  <a:pt x="680" y="182"/>
                </a:lnTo>
                <a:lnTo>
                  <a:pt x="453" y="499"/>
                </a:lnTo>
                <a:lnTo>
                  <a:pt x="181" y="817"/>
                </a:lnTo>
                <a:lnTo>
                  <a:pt x="136" y="862"/>
                </a:lnTo>
                <a:lnTo>
                  <a:pt x="45" y="862"/>
                </a:lnTo>
                <a:lnTo>
                  <a:pt x="0" y="953"/>
                </a:lnTo>
                <a:lnTo>
                  <a:pt x="136" y="1089"/>
                </a:lnTo>
                <a:lnTo>
                  <a:pt x="272" y="1180"/>
                </a:lnTo>
                <a:lnTo>
                  <a:pt x="363" y="1089"/>
                </a:lnTo>
                <a:lnTo>
                  <a:pt x="499" y="726"/>
                </a:lnTo>
                <a:lnTo>
                  <a:pt x="816" y="182"/>
                </a:lnTo>
                <a:lnTo>
                  <a:pt x="862" y="0"/>
                </a:lnTo>
                <a:close/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3924360" y="1684440"/>
            <a:ext cx="2233440" cy="576000"/>
          </a:xfrm>
          <a:custGeom>
            <a:avLst/>
            <a:gdLst/>
            <a:ahLst/>
            <a:rect l="l" t="t" r="r" b="b"/>
            <a:pathLst>
              <a:path w="1407" h="363">
                <a:moveTo>
                  <a:pt x="0" y="273"/>
                </a:moveTo>
                <a:lnTo>
                  <a:pt x="227" y="182"/>
                </a:lnTo>
                <a:lnTo>
                  <a:pt x="635" y="136"/>
                </a:lnTo>
                <a:lnTo>
                  <a:pt x="998" y="46"/>
                </a:lnTo>
                <a:lnTo>
                  <a:pt x="1225" y="0"/>
                </a:lnTo>
                <a:lnTo>
                  <a:pt x="1361" y="46"/>
                </a:lnTo>
                <a:lnTo>
                  <a:pt x="1407" y="91"/>
                </a:lnTo>
                <a:lnTo>
                  <a:pt x="1407" y="136"/>
                </a:lnTo>
                <a:lnTo>
                  <a:pt x="1225" y="182"/>
                </a:lnTo>
                <a:lnTo>
                  <a:pt x="998" y="227"/>
                </a:lnTo>
                <a:lnTo>
                  <a:pt x="772" y="273"/>
                </a:lnTo>
                <a:lnTo>
                  <a:pt x="545" y="318"/>
                </a:lnTo>
                <a:lnTo>
                  <a:pt x="227" y="363"/>
                </a:lnTo>
                <a:lnTo>
                  <a:pt x="46" y="318"/>
                </a:lnTo>
                <a:lnTo>
                  <a:pt x="0" y="273"/>
                </a:lnTo>
                <a:close/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681440" y="2095560"/>
            <a:ext cx="432000" cy="1871640"/>
          </a:xfrm>
          <a:custGeom>
            <a:avLst/>
            <a:gdLst/>
            <a:ahLst/>
            <a:rect l="l" t="t" r="r" b="b"/>
            <a:pathLst>
              <a:path w="272" h="1179">
                <a:moveTo>
                  <a:pt x="0" y="45"/>
                </a:moveTo>
                <a:lnTo>
                  <a:pt x="0" y="1179"/>
                </a:lnTo>
                <a:lnTo>
                  <a:pt x="181" y="1179"/>
                </a:lnTo>
                <a:lnTo>
                  <a:pt x="227" y="317"/>
                </a:lnTo>
                <a:lnTo>
                  <a:pt x="272" y="181"/>
                </a:lnTo>
                <a:lnTo>
                  <a:pt x="90" y="0"/>
                </a:lnTo>
                <a:lnTo>
                  <a:pt x="0" y="45"/>
                </a:lnTo>
                <a:close/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6"/>
          <p:cNvSpPr/>
          <p:nvPr/>
        </p:nvSpPr>
        <p:spPr>
          <a:xfrm>
            <a:off x="3090960" y="3759120"/>
            <a:ext cx="3600360" cy="576360"/>
          </a:xfrm>
          <a:custGeom>
            <a:avLst/>
            <a:gdLst/>
            <a:ahLst/>
            <a:rect l="l" t="t" r="r" b="b"/>
            <a:pathLst>
              <a:path w="2268" h="363">
                <a:moveTo>
                  <a:pt x="2222" y="273"/>
                </a:moveTo>
                <a:lnTo>
                  <a:pt x="1769" y="227"/>
                </a:lnTo>
                <a:lnTo>
                  <a:pt x="1542" y="227"/>
                </a:lnTo>
                <a:lnTo>
                  <a:pt x="1361" y="227"/>
                </a:lnTo>
                <a:lnTo>
                  <a:pt x="726" y="318"/>
                </a:lnTo>
                <a:lnTo>
                  <a:pt x="181" y="363"/>
                </a:lnTo>
                <a:lnTo>
                  <a:pt x="0" y="182"/>
                </a:lnTo>
                <a:lnTo>
                  <a:pt x="91" y="137"/>
                </a:lnTo>
                <a:lnTo>
                  <a:pt x="408" y="182"/>
                </a:lnTo>
                <a:lnTo>
                  <a:pt x="1088" y="91"/>
                </a:lnTo>
                <a:lnTo>
                  <a:pt x="1723" y="0"/>
                </a:lnTo>
                <a:lnTo>
                  <a:pt x="2086" y="0"/>
                </a:lnTo>
                <a:lnTo>
                  <a:pt x="2222" y="137"/>
                </a:lnTo>
                <a:lnTo>
                  <a:pt x="2268" y="273"/>
                </a:lnTo>
                <a:lnTo>
                  <a:pt x="2177" y="273"/>
                </a:lnTo>
                <a:lnTo>
                  <a:pt x="2132" y="273"/>
                </a:lnTo>
              </a:path>
            </a:pathLst>
          </a:custGeom>
          <a:solidFill>
            <a:srgbClr val="77933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500280" y="-284040"/>
            <a:ext cx="295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kě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101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520440" y="83664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可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可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可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500280" y="-284040"/>
            <a:ext cx="295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kě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109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2340000" y="2133720"/>
            <a:ext cx="468000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3" name="Freeform 12"/>
          <p:cNvSpPr/>
          <p:nvPr/>
        </p:nvSpPr>
        <p:spPr>
          <a:xfrm>
            <a:off x="2340000" y="2133720"/>
            <a:ext cx="4680000" cy="647640"/>
          </a:xfrm>
          <a:custGeom>
            <a:avLst/>
            <a:gdLst/>
            <a:ahLst/>
            <a:rect l="l" t="t" r="r" b="b"/>
            <a:pathLst>
              <a:path w="2948" h="408">
                <a:moveTo>
                  <a:pt x="0" y="272"/>
                </a:moveTo>
                <a:lnTo>
                  <a:pt x="91" y="226"/>
                </a:lnTo>
                <a:lnTo>
                  <a:pt x="499" y="226"/>
                </a:lnTo>
                <a:lnTo>
                  <a:pt x="862" y="181"/>
                </a:lnTo>
                <a:lnTo>
                  <a:pt x="1451" y="136"/>
                </a:lnTo>
                <a:lnTo>
                  <a:pt x="2086" y="45"/>
                </a:lnTo>
                <a:lnTo>
                  <a:pt x="2540" y="0"/>
                </a:lnTo>
                <a:lnTo>
                  <a:pt x="2721" y="45"/>
                </a:lnTo>
                <a:lnTo>
                  <a:pt x="2858" y="136"/>
                </a:lnTo>
                <a:lnTo>
                  <a:pt x="2948" y="181"/>
                </a:lnTo>
                <a:lnTo>
                  <a:pt x="2858" y="226"/>
                </a:lnTo>
                <a:lnTo>
                  <a:pt x="2767" y="226"/>
                </a:lnTo>
                <a:lnTo>
                  <a:pt x="2268" y="226"/>
                </a:lnTo>
                <a:lnTo>
                  <a:pt x="1633" y="226"/>
                </a:lnTo>
                <a:lnTo>
                  <a:pt x="1134" y="272"/>
                </a:lnTo>
                <a:lnTo>
                  <a:pt x="317" y="408"/>
                </a:lnTo>
                <a:lnTo>
                  <a:pt x="181" y="408"/>
                </a:lnTo>
                <a:lnTo>
                  <a:pt x="0" y="27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3"/>
          <p:cNvSpPr/>
          <p:nvPr/>
        </p:nvSpPr>
        <p:spPr>
          <a:xfrm>
            <a:off x="3132000" y="3284640"/>
            <a:ext cx="432000" cy="1368360"/>
          </a:xfrm>
          <a:custGeom>
            <a:avLst/>
            <a:gdLst/>
            <a:ahLst/>
            <a:rect l="l" t="t" r="r" b="b"/>
            <a:pathLst>
              <a:path w="272" h="862">
                <a:moveTo>
                  <a:pt x="45" y="0"/>
                </a:moveTo>
                <a:lnTo>
                  <a:pt x="0" y="91"/>
                </a:lnTo>
                <a:lnTo>
                  <a:pt x="45" y="182"/>
                </a:lnTo>
                <a:lnTo>
                  <a:pt x="91" y="227"/>
                </a:lnTo>
                <a:lnTo>
                  <a:pt x="136" y="454"/>
                </a:lnTo>
                <a:lnTo>
                  <a:pt x="181" y="817"/>
                </a:lnTo>
                <a:lnTo>
                  <a:pt x="227" y="862"/>
                </a:lnTo>
                <a:lnTo>
                  <a:pt x="272" y="817"/>
                </a:lnTo>
                <a:lnTo>
                  <a:pt x="272" y="46"/>
                </a:lnTo>
                <a:lnTo>
                  <a:pt x="136" y="0"/>
                </a:lnTo>
                <a:lnTo>
                  <a:pt x="45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2"/>
          <p:cNvSpPr/>
          <p:nvPr/>
        </p:nvSpPr>
        <p:spPr>
          <a:xfrm>
            <a:off x="4518000" y="2448000"/>
            <a:ext cx="1103400" cy="3805200"/>
          </a:xfrm>
          <a:custGeom>
            <a:avLst/>
            <a:gdLst/>
            <a:ahLst/>
            <a:rect l="l" t="t" r="r" b="b"/>
            <a:pathLst>
              <a:path w="1102659" h="3805517">
                <a:moveTo>
                  <a:pt x="551329" y="53788"/>
                </a:moveTo>
                <a:lnTo>
                  <a:pt x="699247" y="309282"/>
                </a:lnTo>
                <a:lnTo>
                  <a:pt x="753035" y="833717"/>
                </a:lnTo>
                <a:lnTo>
                  <a:pt x="793376" y="2030506"/>
                </a:lnTo>
                <a:lnTo>
                  <a:pt x="739588" y="2783541"/>
                </a:lnTo>
                <a:lnTo>
                  <a:pt x="712694" y="3065929"/>
                </a:lnTo>
                <a:lnTo>
                  <a:pt x="658906" y="3160059"/>
                </a:lnTo>
                <a:lnTo>
                  <a:pt x="497541" y="3173506"/>
                </a:lnTo>
                <a:lnTo>
                  <a:pt x="0" y="3092823"/>
                </a:lnTo>
                <a:lnTo>
                  <a:pt x="94129" y="3240741"/>
                </a:lnTo>
                <a:lnTo>
                  <a:pt x="376517" y="3388659"/>
                </a:lnTo>
                <a:lnTo>
                  <a:pt x="578223" y="3536576"/>
                </a:lnTo>
                <a:lnTo>
                  <a:pt x="766482" y="3805517"/>
                </a:lnTo>
                <a:lnTo>
                  <a:pt x="941294" y="3630706"/>
                </a:lnTo>
                <a:lnTo>
                  <a:pt x="981635" y="3200400"/>
                </a:lnTo>
                <a:lnTo>
                  <a:pt x="1021976" y="1667435"/>
                </a:lnTo>
                <a:lnTo>
                  <a:pt x="1062317" y="658906"/>
                </a:lnTo>
                <a:lnTo>
                  <a:pt x="1102659" y="228600"/>
                </a:lnTo>
                <a:lnTo>
                  <a:pt x="914400" y="0"/>
                </a:lnTo>
                <a:lnTo>
                  <a:pt x="551329" y="537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"/>
          <p:cNvSpPr/>
          <p:nvPr/>
        </p:nvSpPr>
        <p:spPr>
          <a:xfrm>
            <a:off x="3510000" y="3133800"/>
            <a:ext cx="1263600" cy="1062000"/>
          </a:xfrm>
          <a:custGeom>
            <a:avLst/>
            <a:gdLst/>
            <a:ahLst/>
            <a:rect l="l" t="t" r="r" b="b"/>
            <a:pathLst>
              <a:path w="1264024" h="1062317">
                <a:moveTo>
                  <a:pt x="26894" y="228600"/>
                </a:moveTo>
                <a:lnTo>
                  <a:pt x="457200" y="188259"/>
                </a:lnTo>
                <a:lnTo>
                  <a:pt x="779930" y="80682"/>
                </a:lnTo>
                <a:lnTo>
                  <a:pt x="887506" y="0"/>
                </a:lnTo>
                <a:lnTo>
                  <a:pt x="1008530" y="40341"/>
                </a:lnTo>
                <a:lnTo>
                  <a:pt x="1264024" y="255494"/>
                </a:lnTo>
                <a:lnTo>
                  <a:pt x="1237130" y="336176"/>
                </a:lnTo>
                <a:lnTo>
                  <a:pt x="1089212" y="497541"/>
                </a:lnTo>
                <a:lnTo>
                  <a:pt x="968189" y="995082"/>
                </a:lnTo>
                <a:lnTo>
                  <a:pt x="981636" y="1062317"/>
                </a:lnTo>
                <a:lnTo>
                  <a:pt x="685800" y="995082"/>
                </a:lnTo>
                <a:lnTo>
                  <a:pt x="753036" y="847164"/>
                </a:lnTo>
                <a:lnTo>
                  <a:pt x="779930" y="322729"/>
                </a:lnTo>
                <a:lnTo>
                  <a:pt x="699247" y="309282"/>
                </a:lnTo>
                <a:lnTo>
                  <a:pt x="0" y="389964"/>
                </a:lnTo>
                <a:lnTo>
                  <a:pt x="26894" y="228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4"/>
          <p:cNvSpPr/>
          <p:nvPr/>
        </p:nvSpPr>
        <p:spPr>
          <a:xfrm>
            <a:off x="3510000" y="4141800"/>
            <a:ext cx="1089000" cy="309600"/>
          </a:xfrm>
          <a:custGeom>
            <a:avLst/>
            <a:gdLst/>
            <a:ahLst/>
            <a:rect l="l" t="t" r="r" b="b"/>
            <a:pathLst>
              <a:path w="1089212" h="309282">
                <a:moveTo>
                  <a:pt x="26894" y="107577"/>
                </a:moveTo>
                <a:lnTo>
                  <a:pt x="726142" y="0"/>
                </a:lnTo>
                <a:lnTo>
                  <a:pt x="1035424" y="40341"/>
                </a:lnTo>
                <a:lnTo>
                  <a:pt x="1089212" y="147918"/>
                </a:lnTo>
                <a:lnTo>
                  <a:pt x="403412" y="268941"/>
                </a:lnTo>
                <a:lnTo>
                  <a:pt x="0" y="309282"/>
                </a:lnTo>
                <a:lnTo>
                  <a:pt x="26894" y="10757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43200" y="-28404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y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121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520440" y="83664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叶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叶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莲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叶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643200" y="-28404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y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129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矩形 1" descr=""/>
          <p:cNvPicPr/>
          <p:nvPr/>
        </p:nvPicPr>
        <p:blipFill>
          <a:blip r:embed="rId1"/>
          <a:stretch/>
        </p:blipFill>
        <p:spPr>
          <a:xfrm>
            <a:off x="274680" y="55440"/>
            <a:ext cx="9193320" cy="8764560"/>
          </a:xfrm>
          <a:prstGeom prst="rect">
            <a:avLst/>
          </a:prstGeom>
          <a:ln w="0">
            <a:noFill/>
          </a:ln>
        </p:spPr>
      </p:pic>
      <p:sp>
        <p:nvSpPr>
          <p:cNvPr id="133" name="任意多边形 3"/>
          <p:cNvSpPr/>
          <p:nvPr/>
        </p:nvSpPr>
        <p:spPr>
          <a:xfrm>
            <a:off x="2998800" y="3402000"/>
            <a:ext cx="442800" cy="1290600"/>
          </a:xfrm>
          <a:custGeom>
            <a:avLst/>
            <a:gdLst/>
            <a:ahLst/>
            <a:rect l="l" t="t" r="r" b="b"/>
            <a:pathLst>
              <a:path w="443753" h="1290918">
                <a:moveTo>
                  <a:pt x="0" y="40341"/>
                </a:moveTo>
                <a:lnTo>
                  <a:pt x="13447" y="228600"/>
                </a:lnTo>
                <a:lnTo>
                  <a:pt x="201706" y="726141"/>
                </a:lnTo>
                <a:lnTo>
                  <a:pt x="282388" y="1223682"/>
                </a:lnTo>
                <a:lnTo>
                  <a:pt x="322730" y="1290918"/>
                </a:lnTo>
                <a:lnTo>
                  <a:pt x="416859" y="1264023"/>
                </a:lnTo>
                <a:lnTo>
                  <a:pt x="430306" y="1008529"/>
                </a:lnTo>
                <a:lnTo>
                  <a:pt x="443753" y="336176"/>
                </a:lnTo>
                <a:lnTo>
                  <a:pt x="363071" y="26894"/>
                </a:lnTo>
                <a:lnTo>
                  <a:pt x="40341" y="0"/>
                </a:lnTo>
                <a:lnTo>
                  <a:pt x="0" y="4034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4"/>
          <p:cNvSpPr/>
          <p:nvPr/>
        </p:nvSpPr>
        <p:spPr>
          <a:xfrm>
            <a:off x="3348000" y="3308400"/>
            <a:ext cx="941400" cy="833400"/>
          </a:xfrm>
          <a:custGeom>
            <a:avLst/>
            <a:gdLst/>
            <a:ahLst/>
            <a:rect l="l" t="t" r="r" b="b"/>
            <a:pathLst>
              <a:path w="941294" h="833718">
                <a:moveTo>
                  <a:pt x="13447" y="188259"/>
                </a:moveTo>
                <a:lnTo>
                  <a:pt x="578223" y="67236"/>
                </a:lnTo>
                <a:lnTo>
                  <a:pt x="658906" y="0"/>
                </a:lnTo>
                <a:lnTo>
                  <a:pt x="941294" y="147918"/>
                </a:lnTo>
                <a:lnTo>
                  <a:pt x="806823" y="295836"/>
                </a:lnTo>
                <a:lnTo>
                  <a:pt x="672353" y="806824"/>
                </a:lnTo>
                <a:lnTo>
                  <a:pt x="591670" y="833718"/>
                </a:lnTo>
                <a:lnTo>
                  <a:pt x="645458" y="255495"/>
                </a:lnTo>
                <a:lnTo>
                  <a:pt x="578223" y="174812"/>
                </a:lnTo>
                <a:lnTo>
                  <a:pt x="0" y="282389"/>
                </a:lnTo>
                <a:lnTo>
                  <a:pt x="13447" y="18825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5"/>
          <p:cNvSpPr/>
          <p:nvPr/>
        </p:nvSpPr>
        <p:spPr>
          <a:xfrm>
            <a:off x="3375000" y="4114800"/>
            <a:ext cx="766800" cy="174600"/>
          </a:xfrm>
          <a:custGeom>
            <a:avLst/>
            <a:gdLst/>
            <a:ahLst/>
            <a:rect l="l" t="t" r="r" b="b"/>
            <a:pathLst>
              <a:path w="766482" h="174812">
                <a:moveTo>
                  <a:pt x="53788" y="94129"/>
                </a:moveTo>
                <a:lnTo>
                  <a:pt x="672353" y="0"/>
                </a:lnTo>
                <a:lnTo>
                  <a:pt x="766482" y="67235"/>
                </a:lnTo>
                <a:lnTo>
                  <a:pt x="726141" y="94129"/>
                </a:lnTo>
                <a:lnTo>
                  <a:pt x="0" y="174812"/>
                </a:lnTo>
                <a:lnTo>
                  <a:pt x="53788" y="941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6"/>
          <p:cNvSpPr/>
          <p:nvPr/>
        </p:nvSpPr>
        <p:spPr>
          <a:xfrm>
            <a:off x="4289400" y="3335400"/>
            <a:ext cx="2178000" cy="496800"/>
          </a:xfrm>
          <a:custGeom>
            <a:avLst/>
            <a:gdLst/>
            <a:ahLst/>
            <a:rect l="l" t="t" r="r" b="b"/>
            <a:pathLst>
              <a:path w="2178423" h="497541">
                <a:moveTo>
                  <a:pt x="0" y="309282"/>
                </a:moveTo>
                <a:lnTo>
                  <a:pt x="1761564" y="0"/>
                </a:lnTo>
                <a:lnTo>
                  <a:pt x="2070847" y="94129"/>
                </a:lnTo>
                <a:lnTo>
                  <a:pt x="2178423" y="188258"/>
                </a:lnTo>
                <a:lnTo>
                  <a:pt x="2164976" y="268941"/>
                </a:lnTo>
                <a:lnTo>
                  <a:pt x="1976717" y="322729"/>
                </a:lnTo>
                <a:lnTo>
                  <a:pt x="215153" y="497541"/>
                </a:lnTo>
                <a:lnTo>
                  <a:pt x="0" y="403411"/>
                </a:lnTo>
                <a:lnTo>
                  <a:pt x="0" y="30928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7"/>
          <p:cNvSpPr/>
          <p:nvPr/>
        </p:nvSpPr>
        <p:spPr>
          <a:xfrm>
            <a:off x="4989600" y="2352600"/>
            <a:ext cx="509400" cy="3630600"/>
          </a:xfrm>
          <a:custGeom>
            <a:avLst/>
            <a:gdLst/>
            <a:ahLst/>
            <a:rect l="l" t="t" r="r" b="b"/>
            <a:pathLst>
              <a:path w="510988" h="3630706">
                <a:moveTo>
                  <a:pt x="94129" y="0"/>
                </a:moveTo>
                <a:lnTo>
                  <a:pt x="0" y="53789"/>
                </a:lnTo>
                <a:lnTo>
                  <a:pt x="40341" y="107577"/>
                </a:lnTo>
                <a:lnTo>
                  <a:pt x="134470" y="228600"/>
                </a:lnTo>
                <a:cubicBezTo>
                  <a:pt x="129988" y="865094"/>
                  <a:pt x="125505" y="1501589"/>
                  <a:pt x="121023" y="2138083"/>
                </a:cubicBezTo>
                <a:lnTo>
                  <a:pt x="161365" y="3294530"/>
                </a:lnTo>
                <a:lnTo>
                  <a:pt x="242047" y="3590365"/>
                </a:lnTo>
                <a:lnTo>
                  <a:pt x="295835" y="3630706"/>
                </a:lnTo>
                <a:lnTo>
                  <a:pt x="363070" y="3576918"/>
                </a:lnTo>
                <a:lnTo>
                  <a:pt x="416859" y="3133165"/>
                </a:lnTo>
                <a:lnTo>
                  <a:pt x="443753" y="1250577"/>
                </a:lnTo>
                <a:lnTo>
                  <a:pt x="497541" y="309283"/>
                </a:lnTo>
                <a:lnTo>
                  <a:pt x="510988" y="174812"/>
                </a:lnTo>
                <a:lnTo>
                  <a:pt x="443753" y="67236"/>
                </a:lnTo>
                <a:lnTo>
                  <a:pt x="9412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928800" y="6429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4</a:t>
            </a:r>
            <a:r>
              <a:rPr b="1" lang="en-US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.</a:t>
            </a:r>
            <a:r>
              <a:rPr b="1" lang="zh-CN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江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692360" y="26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ānɡ  n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42764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第二课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43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Administrator\Application Data\Tencent\Users\843683995\QQ\WinTemp\RichOle\PJ`BK6GZ_)ES[7@CGEAE(9E.jpg"/>
          <p:cNvPicPr/>
          <p:nvPr/>
        </p:nvPicPr>
        <p:blipFill>
          <a:blip r:embed="rId2"/>
          <a:srcRect l="0" t="0" r="0" b="48949"/>
          <a:stretch/>
        </p:blipFill>
        <p:spPr>
          <a:xfrm>
            <a:off x="1643040" y="357120"/>
            <a:ext cx="5160960" cy="2533680"/>
          </a:xfrm>
          <a:prstGeom prst="rect">
            <a:avLst/>
          </a:prstGeom>
          <a:ln w="0">
            <a:noFill/>
          </a:ln>
        </p:spPr>
      </p:pic>
      <p:sp>
        <p:nvSpPr>
          <p:cNvPr id="145" name="椭圆 5"/>
          <p:cNvSpPr/>
          <p:nvPr/>
        </p:nvSpPr>
        <p:spPr>
          <a:xfrm>
            <a:off x="5508720" y="765000"/>
            <a:ext cx="100008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804000" y="5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莲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580000" y="3284640"/>
            <a:ext cx="2448000" cy="1001160"/>
            <a:chOff x="5580000" y="3284640"/>
            <a:chExt cx="2448000" cy="1001160"/>
          </a:xfrm>
        </p:grpSpPr>
        <p:sp>
          <p:nvSpPr>
            <p:cNvPr id="148" name="Text Box 13"/>
            <p:cNvSpPr/>
            <p:nvPr/>
          </p:nvSpPr>
          <p:spPr>
            <a:xfrm>
              <a:off x="5580000" y="3284640"/>
              <a:ext cx="237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5796000" y="3644640"/>
              <a:ext cx="2232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userid170224time20070805084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692360" y="189000"/>
            <a:ext cx="5833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觉得荷叶长得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3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Application Data\Tencent\Users\843683995\QQ\WinTemp\RichOle\PJ`BK6GZ_)ES[7@CGEAE(9E.jpg"/>
          <p:cNvPicPr/>
          <p:nvPr/>
        </p:nvPicPr>
        <p:blipFill>
          <a:blip r:embed="rId2"/>
          <a:srcRect l="0" t="0" r="0" b="48949"/>
          <a:stretch/>
        </p:blipFill>
        <p:spPr>
          <a:xfrm>
            <a:off x="1643040" y="357120"/>
            <a:ext cx="5160960" cy="25336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6300720" y="1916280"/>
            <a:ext cx="9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alibri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5"/>
          <p:cNvSpPr/>
          <p:nvPr/>
        </p:nvSpPr>
        <p:spPr>
          <a:xfrm>
            <a:off x="5508720" y="765000"/>
            <a:ext cx="100008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7"/>
          <p:cNvSpPr/>
          <p:nvPr/>
        </p:nvSpPr>
        <p:spPr>
          <a:xfrm>
            <a:off x="4716360" y="2708280"/>
            <a:ext cx="1714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3276720" y="6206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348000" y="18446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804000" y="5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莲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948360" y="1916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田田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80000" y="3284640"/>
            <a:ext cx="2448000" cy="1002600"/>
            <a:chOff x="5580000" y="3284640"/>
            <a:chExt cx="2448000" cy="1002600"/>
          </a:xfrm>
        </p:grpSpPr>
        <p:sp>
          <p:nvSpPr>
            <p:cNvPr id="163" name="Text Box 15"/>
            <p:cNvSpPr/>
            <p:nvPr/>
          </p:nvSpPr>
          <p:spPr>
            <a:xfrm>
              <a:off x="5580000" y="328464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ɡǎn tàn hà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5796000" y="3644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感 叹 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714760" y="285840"/>
            <a:ext cx="4429080" cy="5429160"/>
            <a:chOff x="2714760" y="285840"/>
            <a:chExt cx="4429080" cy="5429160"/>
          </a:xfrm>
        </p:grpSpPr>
        <p:pic>
          <p:nvPicPr>
            <p:cNvPr id="168" name="Picture 2" descr="C:\Documents and Settings\Administrator\Application Data\Tencent\Users\843683995\QQ\WinTemp\RichOle\PJ`BK6GZ_)ES[7@CGEAE(9E.jpg"/>
            <p:cNvPicPr/>
            <p:nvPr/>
          </p:nvPicPr>
          <p:blipFill>
            <a:blip r:embed="rId2"/>
            <a:srcRect l="0" t="49176" r="0" b="0"/>
            <a:stretch/>
          </p:blipFill>
          <p:spPr>
            <a:xfrm>
              <a:off x="2714760" y="285840"/>
              <a:ext cx="4349520" cy="21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C:\Documents and Settings\Administrator\Application Data\Tencent\Users\843683995\QQ\WinTemp\RichOle\~C@7~[VBS8M8W6OY9BJ1NUY.jpg"/>
            <p:cNvPicPr/>
            <p:nvPr/>
          </p:nvPicPr>
          <p:blipFill>
            <a:blip r:embed="rId3"/>
            <a:stretch/>
          </p:blipFill>
          <p:spPr>
            <a:xfrm>
              <a:off x="2791800" y="2522520"/>
              <a:ext cx="4352040" cy="31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6"/>
          <p:cNvSpPr/>
          <p:nvPr/>
        </p:nvSpPr>
        <p:spPr>
          <a:xfrm>
            <a:off x="6715080" y="571680"/>
            <a:ext cx="28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35712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组合 13" descr=""/>
          <p:cNvPicPr/>
          <p:nvPr/>
        </p:nvPicPr>
        <p:blipFill>
          <a:blip r:embed="rId4"/>
          <a:stretch/>
        </p:blipFill>
        <p:spPr>
          <a:xfrm>
            <a:off x="7254720" y="517680"/>
            <a:ext cx="1889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28800" y="6429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4</a:t>
            </a:r>
            <a:r>
              <a:rPr b="1" lang="en-US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.</a:t>
            </a:r>
            <a:r>
              <a:rPr b="1" lang="zh-CN" sz="7200" spc="-1" strike="noStrike">
                <a:solidFill>
                  <a:srgbClr val="254061"/>
                </a:solidFill>
                <a:latin typeface="楷体_GB2312"/>
                <a:ea typeface="楷体_GB2312"/>
              </a:rPr>
              <a:t>江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92360" y="26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ānɡ  n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5724360" y="234468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5724360" y="234468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2627280" y="26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5724360" y="234468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50920" y="23907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2916360" y="56498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pica.nipic.com/2007-09-30/2007930184216984_2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99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2916360" y="36972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戏莲叶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u=2975229796,110243458&amp;fm=23&amp;gp=0"/>
          <p:cNvPicPr/>
          <p:nvPr/>
        </p:nvPicPr>
        <p:blipFill>
          <a:blip r:embed="rId1"/>
          <a:stretch/>
        </p:blipFill>
        <p:spPr>
          <a:xfrm>
            <a:off x="0" y="4000680"/>
            <a:ext cx="4067280" cy="2857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http://www.hahew.com/uploads/allimg/c120613/133956294229120-2F31.gif"/>
          <p:cNvPicPr/>
          <p:nvPr/>
        </p:nvPicPr>
        <p:blipFill>
          <a:blip r:embed="rId2"/>
          <a:stretch/>
        </p:blipFill>
        <p:spPr>
          <a:xfrm>
            <a:off x="5041800" y="4910040"/>
            <a:ext cx="1689120" cy="158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u=1910321719,4194128447&amp;fm=23&amp;gp=0"/>
          <p:cNvPicPr/>
          <p:nvPr/>
        </p:nvPicPr>
        <p:blipFill>
          <a:blip r:embed="rId3"/>
          <a:stretch/>
        </p:blipFill>
        <p:spPr>
          <a:xfrm>
            <a:off x="6130800" y="1844640"/>
            <a:ext cx="1200240" cy="358452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3511440" y="5105520"/>
            <a:ext cx="1513080" cy="64764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"/>
          <p:cNvSpPr/>
          <p:nvPr/>
        </p:nvSpPr>
        <p:spPr>
          <a:xfrm flipH="1">
            <a:off x="3511440" y="5429160"/>
            <a:ext cx="75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弧形 20"/>
          <p:cNvSpPr/>
          <p:nvPr/>
        </p:nvSpPr>
        <p:spPr>
          <a:xfrm>
            <a:off x="3824280" y="5407200"/>
            <a:ext cx="914400" cy="457200"/>
          </a:xfrm>
          <a:custGeom>
            <a:avLst/>
            <a:gdLst/>
            <a:ahLst/>
            <a:rect l="l" t="t" r="r" b="b"/>
            <a:pathLst>
              <a:path stroke="0" w="914400" h="457200">
                <a:moveTo>
                  <a:pt x="457200" y="0"/>
                </a:moveTo>
                <a:cubicBezTo>
                  <a:pt x="709705" y="0"/>
                  <a:pt x="914400" y="102348"/>
                  <a:pt x="914400" y="228600"/>
                </a:cubicBezTo>
                <a:lnTo>
                  <a:pt x="457200" y="228600"/>
                </a:lnTo>
                <a:lnTo>
                  <a:pt x="457200" y="0"/>
                </a:lnTo>
                <a:close/>
              </a:path>
              <a:path fill="none" w="914400" h="457200">
                <a:moveTo>
                  <a:pt x="457200" y="0"/>
                </a:moveTo>
                <a:cubicBezTo>
                  <a:pt x="709705" y="0"/>
                  <a:pt x="914400" y="102348"/>
                  <a:pt x="914400" y="228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24"/>
          <p:cNvSpPr/>
          <p:nvPr/>
        </p:nvSpPr>
        <p:spPr>
          <a:xfrm>
            <a:off x="4262400" y="5122800"/>
            <a:ext cx="243000" cy="309600"/>
          </a:xfrm>
          <a:custGeom>
            <a:avLst/>
            <a:gdLst/>
            <a:ahLst/>
            <a:rect l="l" t="t" r="r" b="b"/>
            <a:pathLst>
              <a:path w="242047" h="309283">
                <a:moveTo>
                  <a:pt x="0" y="309283"/>
                </a:moveTo>
                <a:cubicBezTo>
                  <a:pt x="4482" y="286871"/>
                  <a:pt x="7904" y="264220"/>
                  <a:pt x="13447" y="242047"/>
                </a:cubicBezTo>
                <a:cubicBezTo>
                  <a:pt x="16885" y="228296"/>
                  <a:pt x="23819" y="215543"/>
                  <a:pt x="26894" y="201706"/>
                </a:cubicBezTo>
                <a:cubicBezTo>
                  <a:pt x="32809" y="175090"/>
                  <a:pt x="34426" y="147640"/>
                  <a:pt x="40341" y="121024"/>
                </a:cubicBezTo>
                <a:cubicBezTo>
                  <a:pt x="43416" y="107187"/>
                  <a:pt x="42720" y="89538"/>
                  <a:pt x="53788" y="80683"/>
                </a:cubicBezTo>
                <a:cubicBezTo>
                  <a:pt x="68219" y="69138"/>
                  <a:pt x="89647" y="71718"/>
                  <a:pt x="107576" y="67236"/>
                </a:cubicBezTo>
                <a:cubicBezTo>
                  <a:pt x="125505" y="53789"/>
                  <a:pt x="141318" y="36918"/>
                  <a:pt x="161364" y="26895"/>
                </a:cubicBezTo>
                <a:cubicBezTo>
                  <a:pt x="186720" y="14217"/>
                  <a:pt x="242047" y="0"/>
                  <a:pt x="242047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0"/>
          <p:cNvSpPr/>
          <p:nvPr/>
        </p:nvSpPr>
        <p:spPr>
          <a:xfrm>
            <a:off x="1692360" y="7650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想象背一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96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714760" y="285840"/>
            <a:ext cx="4429080" cy="5429160"/>
            <a:chOff x="2714760" y="285840"/>
            <a:chExt cx="4429080" cy="5429160"/>
          </a:xfrm>
        </p:grpSpPr>
        <p:pic>
          <p:nvPicPr>
            <p:cNvPr id="198" name="Picture 2" descr="C:\Documents and Settings\Administrator\Application Data\Tencent\Users\843683995\QQ\WinTemp\RichOle\PJ`BK6GZ_)ES[7@CGEAE(9E.jpg"/>
            <p:cNvPicPr/>
            <p:nvPr/>
          </p:nvPicPr>
          <p:blipFill>
            <a:blip r:embed="rId2"/>
            <a:srcRect l="0" t="49176" r="0" b="0"/>
            <a:stretch/>
          </p:blipFill>
          <p:spPr>
            <a:xfrm>
              <a:off x="2714760" y="285840"/>
              <a:ext cx="4349520" cy="21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" descr="C:\Documents and Settings\Administrator\Application Data\Tencent\Users\843683995\QQ\WinTemp\RichOle\~C@7~[VBS8M8W6OY9BJ1NUY.jpg"/>
            <p:cNvPicPr/>
            <p:nvPr/>
          </p:nvPicPr>
          <p:blipFill>
            <a:blip r:embed="rId3"/>
            <a:stretch/>
          </p:blipFill>
          <p:spPr>
            <a:xfrm>
              <a:off x="2791800" y="2522520"/>
              <a:ext cx="4352040" cy="31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8"/>
          <p:cNvSpPr/>
          <p:nvPr/>
        </p:nvSpPr>
        <p:spPr>
          <a:xfrm>
            <a:off x="4071960" y="3571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071960" y="1428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4143240" y="2571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4143240" y="3714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4143240" y="47149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Calibri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C:\Documents and Settings\Administrator\Application Data\Tencent\Users\843683995\QQ\WinTemp\RichOle\IY8GME_UQIZR4$JZ2``S~%5.jpg"/>
          <p:cNvPicPr/>
          <p:nvPr/>
        </p:nvPicPr>
        <p:blipFill>
          <a:blip r:embed="rId2"/>
          <a:stretch/>
        </p:blipFill>
        <p:spPr>
          <a:xfrm>
            <a:off x="1143000" y="714240"/>
            <a:ext cx="66387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istrator\Application Data\Tencent\Users\843683995\QQ\WinTemp\RichOle\Z7SKNIZ8EDG{)S{89S1R7O8.jpg"/>
          <p:cNvPicPr/>
          <p:nvPr/>
        </p:nvPicPr>
        <p:blipFill>
          <a:blip r:embed="rId3"/>
          <a:stretch/>
        </p:blipFill>
        <p:spPr>
          <a:xfrm>
            <a:off x="1928880" y="2786040"/>
            <a:ext cx="5084640" cy="1785960"/>
          </a:xfrm>
          <a:prstGeom prst="rect">
            <a:avLst/>
          </a:prstGeom>
          <a:ln w="0">
            <a:noFill/>
          </a:ln>
        </p:spPr>
      </p:pic>
      <p:sp>
        <p:nvSpPr>
          <p:cNvPr id="209" name="矩形 8"/>
          <p:cNvSpPr/>
          <p:nvPr/>
        </p:nvSpPr>
        <p:spPr>
          <a:xfrm>
            <a:off x="1214280" y="714240"/>
            <a:ext cx="65008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"/>
          <p:cNvSpPr/>
          <p:nvPr/>
        </p:nvSpPr>
        <p:spPr>
          <a:xfrm>
            <a:off x="2000160" y="3143160"/>
            <a:ext cx="4929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1835280" y="1125360"/>
            <a:ext cx="6156360" cy="4631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39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图说一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莲叶间”是什么地方？“采莲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4437000"/>
            <a:ext cx="2664000" cy="1053360"/>
            <a:chOff x="179280" y="4437000"/>
            <a:chExt cx="2664000" cy="1053360"/>
          </a:xfrm>
        </p:grpSpPr>
        <p:sp>
          <p:nvSpPr>
            <p:cNvPr id="49" name="Text Box 6"/>
            <p:cNvSpPr/>
            <p:nvPr/>
          </p:nvSpPr>
          <p:spPr>
            <a:xfrm>
              <a:off x="179280" y="4726080"/>
              <a:ext cx="215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莲叶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179280" y="4437000"/>
              <a:ext cx="26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lián yè jiā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26920" y="2421000"/>
            <a:ext cx="1873080" cy="990720"/>
            <a:chOff x="826920" y="2421000"/>
            <a:chExt cx="1873080" cy="990720"/>
          </a:xfrm>
        </p:grpSpPr>
        <p:sp>
          <p:nvSpPr>
            <p:cNvPr id="52" name="Text Box 8"/>
            <p:cNvSpPr/>
            <p:nvPr/>
          </p:nvSpPr>
          <p:spPr>
            <a:xfrm>
              <a:off x="826920" y="270828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900000" y="2421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yú 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443640" y="1268280"/>
            <a:ext cx="2016000" cy="1063800"/>
            <a:chOff x="6443640" y="1268280"/>
            <a:chExt cx="2016000" cy="1063800"/>
          </a:xfrm>
        </p:grpSpPr>
        <p:sp>
          <p:nvSpPr>
            <p:cNvPr id="55" name="Text Box 10"/>
            <p:cNvSpPr/>
            <p:nvPr/>
          </p:nvSpPr>
          <p:spPr>
            <a:xfrm>
              <a:off x="6516720" y="1628640"/>
              <a:ext cx="194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采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6443640" y="126828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cǎi liá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684360" y="18900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读一读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212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28920" y="0"/>
            <a:ext cx="4000320" cy="6642000"/>
            <a:chOff x="2428920" y="0"/>
            <a:chExt cx="4000320" cy="6642000"/>
          </a:xfrm>
        </p:grpSpPr>
        <p:pic>
          <p:nvPicPr>
            <p:cNvPr id="214" name="Picture 2" descr="C:\Documents and Settings\Administrator\Application Data\Tencent\Users\843683995\QQ\WinTemp\RichOle\PJ`BK6GZ_)ES[7@CGEAE(9E.jpg"/>
            <p:cNvPicPr/>
            <p:nvPr/>
          </p:nvPicPr>
          <p:blipFill>
            <a:blip r:embed="rId2"/>
            <a:stretch/>
          </p:blipFill>
          <p:spPr>
            <a:xfrm>
              <a:off x="2502720" y="0"/>
              <a:ext cx="3926520" cy="37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" descr="C:\Documents and Settings\Administrator\Application Data\Tencent\Users\843683995\QQ\WinTemp\RichOle\~C@7~[VBS8M8W6OY9BJ1NUY.jpg"/>
            <p:cNvPicPr/>
            <p:nvPr/>
          </p:nvPicPr>
          <p:blipFill>
            <a:blip r:embed="rId3"/>
            <a:stretch/>
          </p:blipFill>
          <p:spPr>
            <a:xfrm>
              <a:off x="2428920" y="3783960"/>
              <a:ext cx="3929400" cy="285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643200" y="-28404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y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219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321720" y="8571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小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大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鱼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680" y="2604960"/>
            <a:ext cx="4032360" cy="4148280"/>
            <a:chOff x="31680" y="2604960"/>
            <a:chExt cx="4032360" cy="4148280"/>
          </a:xfrm>
        </p:grpSpPr>
        <p:sp>
          <p:nvSpPr>
            <p:cNvPr id="226" name="Rectangle 5"/>
            <p:cNvSpPr/>
            <p:nvPr/>
          </p:nvSpPr>
          <p:spPr>
            <a:xfrm>
              <a:off x="31680" y="2604960"/>
              <a:ext cx="4032360" cy="41482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>
              <a:off x="31680" y="4689720"/>
              <a:ext cx="4032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7"/>
          <p:cNvSpPr/>
          <p:nvPr/>
        </p:nvSpPr>
        <p:spPr>
          <a:xfrm flipH="1">
            <a:off x="2048040" y="2604960"/>
            <a:ext cx="17280" cy="414828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24000" y="2612880"/>
            <a:ext cx="3941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3810240" y="347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878760" y="343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2299680" y="1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5214960" y="3477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6558840" y="38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9"/>
          <p:cNvSpPr/>
          <p:nvPr/>
        </p:nvSpPr>
        <p:spPr>
          <a:xfrm>
            <a:off x="7962120" y="38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4679280" y="2852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6095520" y="28209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2"/>
          <p:cNvSpPr/>
          <p:nvPr/>
        </p:nvSpPr>
        <p:spPr>
          <a:xfrm>
            <a:off x="708120" y="514440"/>
            <a:ext cx="1311120" cy="1236600"/>
          </a:xfrm>
          <a:custGeom>
            <a:avLst/>
            <a:gdLst/>
            <a:ahLst/>
            <a:rect l="l" t="t" r="r" b="b"/>
            <a:pathLst>
              <a:path w="1311197" h="1237130">
                <a:moveTo>
                  <a:pt x="700483" y="0"/>
                </a:moveTo>
                <a:lnTo>
                  <a:pt x="700483" y="0"/>
                </a:lnTo>
                <a:cubicBezTo>
                  <a:pt x="696001" y="40341"/>
                  <a:pt x="693709" y="80987"/>
                  <a:pt x="687036" y="121024"/>
                </a:cubicBezTo>
                <a:cubicBezTo>
                  <a:pt x="684706" y="135006"/>
                  <a:pt x="681452" y="149571"/>
                  <a:pt x="673589" y="161365"/>
                </a:cubicBezTo>
                <a:cubicBezTo>
                  <a:pt x="663040" y="177188"/>
                  <a:pt x="645422" y="187097"/>
                  <a:pt x="633248" y="201706"/>
                </a:cubicBezTo>
                <a:cubicBezTo>
                  <a:pt x="577218" y="268943"/>
                  <a:pt x="639972" y="219636"/>
                  <a:pt x="566013" y="268942"/>
                </a:cubicBezTo>
                <a:cubicBezTo>
                  <a:pt x="544297" y="301516"/>
                  <a:pt x="540968" y="312224"/>
                  <a:pt x="512224" y="336177"/>
                </a:cubicBezTo>
                <a:cubicBezTo>
                  <a:pt x="495007" y="350524"/>
                  <a:pt x="474283" y="360671"/>
                  <a:pt x="458436" y="376518"/>
                </a:cubicBezTo>
                <a:cubicBezTo>
                  <a:pt x="447008" y="387946"/>
                  <a:pt x="442184" y="404696"/>
                  <a:pt x="431542" y="416859"/>
                </a:cubicBezTo>
                <a:cubicBezTo>
                  <a:pt x="431536" y="416866"/>
                  <a:pt x="338314" y="510089"/>
                  <a:pt x="323966" y="524436"/>
                </a:cubicBezTo>
                <a:cubicBezTo>
                  <a:pt x="315001" y="533401"/>
                  <a:pt x="307620" y="544297"/>
                  <a:pt x="297071" y="551330"/>
                </a:cubicBezTo>
                <a:cubicBezTo>
                  <a:pt x="199710" y="616237"/>
                  <a:pt x="245299" y="590663"/>
                  <a:pt x="162601" y="632012"/>
                </a:cubicBezTo>
                <a:cubicBezTo>
                  <a:pt x="130495" y="728329"/>
                  <a:pt x="176395" y="618149"/>
                  <a:pt x="108813" y="699248"/>
                </a:cubicBezTo>
                <a:cubicBezTo>
                  <a:pt x="95980" y="714648"/>
                  <a:pt x="89816" y="734611"/>
                  <a:pt x="81919" y="753036"/>
                </a:cubicBezTo>
                <a:cubicBezTo>
                  <a:pt x="68098" y="785285"/>
                  <a:pt x="64775" y="813036"/>
                  <a:pt x="55024" y="847165"/>
                </a:cubicBezTo>
                <a:cubicBezTo>
                  <a:pt x="51130" y="860794"/>
                  <a:pt x="47916" y="874828"/>
                  <a:pt x="41577" y="887506"/>
                </a:cubicBezTo>
                <a:cubicBezTo>
                  <a:pt x="34349" y="901961"/>
                  <a:pt x="23648" y="914401"/>
                  <a:pt x="14683" y="927848"/>
                </a:cubicBezTo>
                <a:cubicBezTo>
                  <a:pt x="-4468" y="1042754"/>
                  <a:pt x="-16440" y="1040415"/>
                  <a:pt x="55024" y="1183342"/>
                </a:cubicBezTo>
                <a:cubicBezTo>
                  <a:pt x="61363" y="1196020"/>
                  <a:pt x="81554" y="1193602"/>
                  <a:pt x="95366" y="1196789"/>
                </a:cubicBezTo>
                <a:cubicBezTo>
                  <a:pt x="139906" y="1207067"/>
                  <a:pt x="184222" y="1220708"/>
                  <a:pt x="229836" y="1223683"/>
                </a:cubicBezTo>
                <a:cubicBezTo>
                  <a:pt x="390921" y="1234188"/>
                  <a:pt x="552565" y="1232648"/>
                  <a:pt x="713930" y="1237130"/>
                </a:cubicBezTo>
                <a:cubicBezTo>
                  <a:pt x="875295" y="1232648"/>
                  <a:pt x="1037098" y="1236388"/>
                  <a:pt x="1198024" y="1223683"/>
                </a:cubicBezTo>
                <a:cubicBezTo>
                  <a:pt x="1210663" y="1222685"/>
                  <a:pt x="1217886" y="1207338"/>
                  <a:pt x="1224919" y="1196789"/>
                </a:cubicBezTo>
                <a:cubicBezTo>
                  <a:pt x="1236039" y="1180110"/>
                  <a:pt x="1244774" y="1161770"/>
                  <a:pt x="1251813" y="1143000"/>
                </a:cubicBezTo>
                <a:cubicBezTo>
                  <a:pt x="1262166" y="1115391"/>
                  <a:pt x="1272317" y="1047537"/>
                  <a:pt x="1278707" y="1021977"/>
                </a:cubicBezTo>
                <a:cubicBezTo>
                  <a:pt x="1282145" y="1008226"/>
                  <a:pt x="1287672" y="995083"/>
                  <a:pt x="1292154" y="981636"/>
                </a:cubicBezTo>
                <a:cubicBezTo>
                  <a:pt x="1319853" y="704643"/>
                  <a:pt x="1315128" y="809099"/>
                  <a:pt x="1292154" y="349624"/>
                </a:cubicBezTo>
                <a:cubicBezTo>
                  <a:pt x="1291446" y="335467"/>
                  <a:pt x="1286570" y="321077"/>
                  <a:pt x="1278707" y="309283"/>
                </a:cubicBezTo>
                <a:cubicBezTo>
                  <a:pt x="1268158" y="293460"/>
                  <a:pt x="1251813" y="282389"/>
                  <a:pt x="1238366" y="268942"/>
                </a:cubicBezTo>
                <a:cubicBezTo>
                  <a:pt x="1233884" y="255495"/>
                  <a:pt x="1232212" y="240755"/>
                  <a:pt x="1224919" y="228600"/>
                </a:cubicBezTo>
                <a:cubicBezTo>
                  <a:pt x="1218396" y="217729"/>
                  <a:pt x="1205944" y="211606"/>
                  <a:pt x="1198024" y="201706"/>
                </a:cubicBezTo>
                <a:cubicBezTo>
                  <a:pt x="1187928" y="189086"/>
                  <a:pt x="1181867" y="173444"/>
                  <a:pt x="1171130" y="161365"/>
                </a:cubicBezTo>
                <a:cubicBezTo>
                  <a:pt x="1145862" y="132938"/>
                  <a:pt x="1117342" y="107577"/>
                  <a:pt x="1090448" y="80683"/>
                </a:cubicBezTo>
                <a:cubicBezTo>
                  <a:pt x="1069520" y="59755"/>
                  <a:pt x="1039720" y="24681"/>
                  <a:pt x="1009766" y="13448"/>
                </a:cubicBezTo>
                <a:cubicBezTo>
                  <a:pt x="988365" y="5423"/>
                  <a:pt x="964942" y="4483"/>
                  <a:pt x="942530" y="0"/>
                </a:cubicBezTo>
                <a:lnTo>
                  <a:pt x="848401" y="13448"/>
                </a:lnTo>
                <a:cubicBezTo>
                  <a:pt x="732909" y="27885"/>
                  <a:pt x="725136" y="2241"/>
                  <a:pt x="700483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3"/>
          <p:cNvSpPr/>
          <p:nvPr/>
        </p:nvSpPr>
        <p:spPr>
          <a:xfrm>
            <a:off x="2057400" y="793800"/>
            <a:ext cx="1384200" cy="739800"/>
          </a:xfrm>
          <a:custGeom>
            <a:avLst/>
            <a:gdLst/>
            <a:ahLst/>
            <a:rect l="l" t="t" r="r" b="b"/>
            <a:pathLst>
              <a:path w="1385047" h="739589">
                <a:moveTo>
                  <a:pt x="282388" y="67236"/>
                </a:moveTo>
                <a:lnTo>
                  <a:pt x="282388" y="67236"/>
                </a:lnTo>
                <a:cubicBezTo>
                  <a:pt x="251012" y="107577"/>
                  <a:pt x="216608" y="145736"/>
                  <a:pt x="188259" y="188259"/>
                </a:cubicBezTo>
                <a:cubicBezTo>
                  <a:pt x="118430" y="293002"/>
                  <a:pt x="231679" y="171731"/>
                  <a:pt x="147918" y="255495"/>
                </a:cubicBezTo>
                <a:cubicBezTo>
                  <a:pt x="143436" y="268942"/>
                  <a:pt x="140055" y="282808"/>
                  <a:pt x="134471" y="295836"/>
                </a:cubicBezTo>
                <a:cubicBezTo>
                  <a:pt x="126574" y="314261"/>
                  <a:pt x="114427" y="330785"/>
                  <a:pt x="107576" y="349624"/>
                </a:cubicBezTo>
                <a:cubicBezTo>
                  <a:pt x="96424" y="380291"/>
                  <a:pt x="92396" y="413296"/>
                  <a:pt x="80682" y="443753"/>
                </a:cubicBezTo>
                <a:cubicBezTo>
                  <a:pt x="13124" y="619405"/>
                  <a:pt x="67764" y="456143"/>
                  <a:pt x="13447" y="564777"/>
                </a:cubicBezTo>
                <a:cubicBezTo>
                  <a:pt x="7108" y="577455"/>
                  <a:pt x="4482" y="591671"/>
                  <a:pt x="0" y="605118"/>
                </a:cubicBezTo>
                <a:cubicBezTo>
                  <a:pt x="4482" y="640977"/>
                  <a:pt x="-6599" y="682626"/>
                  <a:pt x="13447" y="712695"/>
                </a:cubicBezTo>
                <a:cubicBezTo>
                  <a:pt x="26125" y="731712"/>
                  <a:pt x="57845" y="725229"/>
                  <a:pt x="80682" y="726142"/>
                </a:cubicBezTo>
                <a:cubicBezTo>
                  <a:pt x="282277" y="734206"/>
                  <a:pt x="484094" y="735107"/>
                  <a:pt x="685800" y="739589"/>
                </a:cubicBezTo>
                <a:cubicBezTo>
                  <a:pt x="784412" y="735107"/>
                  <a:pt x="883625" y="737903"/>
                  <a:pt x="981635" y="726142"/>
                </a:cubicBezTo>
                <a:cubicBezTo>
                  <a:pt x="997681" y="724216"/>
                  <a:pt x="1007121" y="705614"/>
                  <a:pt x="1021976" y="699248"/>
                </a:cubicBezTo>
                <a:cubicBezTo>
                  <a:pt x="1038963" y="691968"/>
                  <a:pt x="1057995" y="690877"/>
                  <a:pt x="1075765" y="685800"/>
                </a:cubicBezTo>
                <a:cubicBezTo>
                  <a:pt x="1089394" y="681906"/>
                  <a:pt x="1102659" y="676835"/>
                  <a:pt x="1116106" y="672353"/>
                </a:cubicBezTo>
                <a:cubicBezTo>
                  <a:pt x="1125071" y="658906"/>
                  <a:pt x="1131572" y="643440"/>
                  <a:pt x="1143000" y="632012"/>
                </a:cubicBezTo>
                <a:cubicBezTo>
                  <a:pt x="1154428" y="620584"/>
                  <a:pt x="1169309" y="613136"/>
                  <a:pt x="1183341" y="605118"/>
                </a:cubicBezTo>
                <a:cubicBezTo>
                  <a:pt x="1229868" y="578531"/>
                  <a:pt x="1232211" y="579863"/>
                  <a:pt x="1277471" y="564777"/>
                </a:cubicBezTo>
                <a:cubicBezTo>
                  <a:pt x="1290918" y="555812"/>
                  <a:pt x="1303780" y="545901"/>
                  <a:pt x="1317812" y="537883"/>
                </a:cubicBezTo>
                <a:cubicBezTo>
                  <a:pt x="1335216" y="527938"/>
                  <a:pt x="1357426" y="525163"/>
                  <a:pt x="1371600" y="510989"/>
                </a:cubicBezTo>
                <a:cubicBezTo>
                  <a:pt x="1381623" y="500966"/>
                  <a:pt x="1380565" y="484095"/>
                  <a:pt x="1385047" y="470648"/>
                </a:cubicBezTo>
                <a:cubicBezTo>
                  <a:pt x="1380603" y="443982"/>
                  <a:pt x="1366016" y="330593"/>
                  <a:pt x="1344706" y="309283"/>
                </a:cubicBezTo>
                <a:cubicBezTo>
                  <a:pt x="1331259" y="295836"/>
                  <a:pt x="1320188" y="279491"/>
                  <a:pt x="1304365" y="268942"/>
                </a:cubicBezTo>
                <a:cubicBezTo>
                  <a:pt x="1292571" y="261079"/>
                  <a:pt x="1277471" y="259977"/>
                  <a:pt x="1264024" y="255495"/>
                </a:cubicBezTo>
                <a:cubicBezTo>
                  <a:pt x="1228165" y="231589"/>
                  <a:pt x="1211216" y="224099"/>
                  <a:pt x="1183341" y="188259"/>
                </a:cubicBezTo>
                <a:cubicBezTo>
                  <a:pt x="1163497" y="162745"/>
                  <a:pt x="1152409" y="130433"/>
                  <a:pt x="1129553" y="107577"/>
                </a:cubicBezTo>
                <a:cubicBezTo>
                  <a:pt x="1033732" y="11756"/>
                  <a:pt x="1142472" y="115222"/>
                  <a:pt x="1048871" y="40342"/>
                </a:cubicBezTo>
                <a:cubicBezTo>
                  <a:pt x="1038971" y="32422"/>
                  <a:pt x="1033629" y="18442"/>
                  <a:pt x="1021976" y="13448"/>
                </a:cubicBezTo>
                <a:cubicBezTo>
                  <a:pt x="1000968" y="4445"/>
                  <a:pt x="977153" y="4483"/>
                  <a:pt x="954741" y="0"/>
                </a:cubicBezTo>
                <a:cubicBezTo>
                  <a:pt x="923365" y="4483"/>
                  <a:pt x="892090" y="9745"/>
                  <a:pt x="860612" y="13448"/>
                </a:cubicBezTo>
                <a:cubicBezTo>
                  <a:pt x="769224" y="24200"/>
                  <a:pt x="655060" y="32818"/>
                  <a:pt x="564776" y="40342"/>
                </a:cubicBezTo>
                <a:cubicBezTo>
                  <a:pt x="546847" y="44824"/>
                  <a:pt x="528758" y="48712"/>
                  <a:pt x="510988" y="53789"/>
                </a:cubicBezTo>
                <a:cubicBezTo>
                  <a:pt x="497359" y="57683"/>
                  <a:pt x="484724" y="65580"/>
                  <a:pt x="470647" y="67236"/>
                </a:cubicBezTo>
                <a:cubicBezTo>
                  <a:pt x="350918" y="81322"/>
                  <a:pt x="313764" y="67236"/>
                  <a:pt x="282388" y="67236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4"/>
          <p:cNvSpPr/>
          <p:nvPr/>
        </p:nvSpPr>
        <p:spPr>
          <a:xfrm>
            <a:off x="3657600" y="860400"/>
            <a:ext cx="1306440" cy="901800"/>
          </a:xfrm>
          <a:custGeom>
            <a:avLst/>
            <a:gdLst/>
            <a:ahLst/>
            <a:rect l="l" t="t" r="r" b="b"/>
            <a:pathLst>
              <a:path w="1305896" h="900953">
                <a:moveTo>
                  <a:pt x="1305896" y="0"/>
                </a:moveTo>
                <a:lnTo>
                  <a:pt x="1305896" y="0"/>
                </a:lnTo>
                <a:cubicBezTo>
                  <a:pt x="1292449" y="67235"/>
                  <a:pt x="1276827" y="134072"/>
                  <a:pt x="1265555" y="201706"/>
                </a:cubicBezTo>
                <a:cubicBezTo>
                  <a:pt x="1261073" y="228600"/>
                  <a:pt x="1259943" y="256273"/>
                  <a:pt x="1252108" y="282388"/>
                </a:cubicBezTo>
                <a:cubicBezTo>
                  <a:pt x="1246348" y="301588"/>
                  <a:pt x="1234178" y="318247"/>
                  <a:pt x="1225213" y="336176"/>
                </a:cubicBezTo>
                <a:cubicBezTo>
                  <a:pt x="1220731" y="354105"/>
                  <a:pt x="1216843" y="372194"/>
                  <a:pt x="1211766" y="389964"/>
                </a:cubicBezTo>
                <a:cubicBezTo>
                  <a:pt x="1207872" y="403593"/>
                  <a:pt x="1200474" y="416296"/>
                  <a:pt x="1198319" y="430306"/>
                </a:cubicBezTo>
                <a:cubicBezTo>
                  <a:pt x="1173219" y="593460"/>
                  <a:pt x="1220846" y="528802"/>
                  <a:pt x="1144531" y="605117"/>
                </a:cubicBezTo>
                <a:cubicBezTo>
                  <a:pt x="1140049" y="618564"/>
                  <a:pt x="1137423" y="632781"/>
                  <a:pt x="1131084" y="645459"/>
                </a:cubicBezTo>
                <a:cubicBezTo>
                  <a:pt x="1091794" y="724039"/>
                  <a:pt x="1113276" y="647274"/>
                  <a:pt x="1090743" y="726141"/>
                </a:cubicBezTo>
                <a:cubicBezTo>
                  <a:pt x="1090603" y="726629"/>
                  <a:pt x="1070297" y="813822"/>
                  <a:pt x="1063849" y="820270"/>
                </a:cubicBezTo>
                <a:cubicBezTo>
                  <a:pt x="1024735" y="859384"/>
                  <a:pt x="926760" y="856961"/>
                  <a:pt x="889037" y="860612"/>
                </a:cubicBezTo>
                <a:cubicBezTo>
                  <a:pt x="566293" y="891846"/>
                  <a:pt x="648354" y="884442"/>
                  <a:pt x="351155" y="900953"/>
                </a:cubicBezTo>
                <a:cubicBezTo>
                  <a:pt x="340217" y="899391"/>
                  <a:pt x="228597" y="886740"/>
                  <a:pt x="203237" y="874059"/>
                </a:cubicBezTo>
                <a:cubicBezTo>
                  <a:pt x="191897" y="868389"/>
                  <a:pt x="186892" y="854197"/>
                  <a:pt x="176343" y="847164"/>
                </a:cubicBezTo>
                <a:cubicBezTo>
                  <a:pt x="159664" y="836045"/>
                  <a:pt x="139234" y="831389"/>
                  <a:pt x="122555" y="820270"/>
                </a:cubicBezTo>
                <a:cubicBezTo>
                  <a:pt x="48721" y="771048"/>
                  <a:pt x="148960" y="811143"/>
                  <a:pt x="55319" y="779929"/>
                </a:cubicBezTo>
                <a:cubicBezTo>
                  <a:pt x="8318" y="709428"/>
                  <a:pt x="-18572" y="710296"/>
                  <a:pt x="14978" y="632012"/>
                </a:cubicBezTo>
                <a:cubicBezTo>
                  <a:pt x="19972" y="620359"/>
                  <a:pt x="30101" y="609826"/>
                  <a:pt x="41872" y="605117"/>
                </a:cubicBezTo>
                <a:cubicBezTo>
                  <a:pt x="76191" y="591389"/>
                  <a:pt x="149449" y="578223"/>
                  <a:pt x="149449" y="578223"/>
                </a:cubicBezTo>
                <a:cubicBezTo>
                  <a:pt x="162896" y="569258"/>
                  <a:pt x="175335" y="558557"/>
                  <a:pt x="189790" y="551329"/>
                </a:cubicBezTo>
                <a:cubicBezTo>
                  <a:pt x="253955" y="519247"/>
                  <a:pt x="406636" y="526115"/>
                  <a:pt x="431837" y="524435"/>
                </a:cubicBezTo>
                <a:cubicBezTo>
                  <a:pt x="427355" y="434788"/>
                  <a:pt x="429999" y="344499"/>
                  <a:pt x="418390" y="255494"/>
                </a:cubicBezTo>
                <a:cubicBezTo>
                  <a:pt x="416300" y="239468"/>
                  <a:pt x="399514" y="229185"/>
                  <a:pt x="391496" y="215153"/>
                </a:cubicBezTo>
                <a:cubicBezTo>
                  <a:pt x="381551" y="197748"/>
                  <a:pt x="373567" y="179294"/>
                  <a:pt x="364602" y="161364"/>
                </a:cubicBezTo>
                <a:cubicBezTo>
                  <a:pt x="382531" y="152399"/>
                  <a:pt x="402991" y="147303"/>
                  <a:pt x="418390" y="134470"/>
                </a:cubicBezTo>
                <a:cubicBezTo>
                  <a:pt x="430805" y="124124"/>
                  <a:pt x="430516" y="100693"/>
                  <a:pt x="445284" y="94129"/>
                </a:cubicBezTo>
                <a:cubicBezTo>
                  <a:pt x="474247" y="81256"/>
                  <a:pt x="508037" y="85164"/>
                  <a:pt x="539413" y="80682"/>
                </a:cubicBezTo>
                <a:cubicBezTo>
                  <a:pt x="596146" y="99592"/>
                  <a:pt x="611306" y="107576"/>
                  <a:pt x="687331" y="107576"/>
                </a:cubicBezTo>
                <a:cubicBezTo>
                  <a:pt x="704216" y="107576"/>
                  <a:pt x="762436" y="87023"/>
                  <a:pt x="781460" y="80682"/>
                </a:cubicBezTo>
                <a:cubicBezTo>
                  <a:pt x="790425" y="71717"/>
                  <a:pt x="797015" y="59458"/>
                  <a:pt x="808355" y="53788"/>
                </a:cubicBezTo>
                <a:cubicBezTo>
                  <a:pt x="941521" y="-12794"/>
                  <a:pt x="1222973" y="8965"/>
                  <a:pt x="1305896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5"/>
          <p:cNvSpPr/>
          <p:nvPr/>
        </p:nvSpPr>
        <p:spPr>
          <a:xfrm>
            <a:off x="5122800" y="1041480"/>
            <a:ext cx="1157400" cy="733320"/>
          </a:xfrm>
          <a:custGeom>
            <a:avLst/>
            <a:gdLst/>
            <a:ahLst/>
            <a:rect l="l" t="t" r="r" b="b"/>
            <a:pathLst>
              <a:path w="1156447" h="734328">
                <a:moveTo>
                  <a:pt x="416859" y="48528"/>
                </a:moveTo>
                <a:lnTo>
                  <a:pt x="416859" y="48528"/>
                </a:lnTo>
                <a:cubicBezTo>
                  <a:pt x="466165" y="44046"/>
                  <a:pt x="516367" y="45455"/>
                  <a:pt x="564777" y="35081"/>
                </a:cubicBezTo>
                <a:cubicBezTo>
                  <a:pt x="715993" y="2678"/>
                  <a:pt x="423395" y="-17773"/>
                  <a:pt x="699247" y="21634"/>
                </a:cubicBezTo>
                <a:cubicBezTo>
                  <a:pt x="703730" y="93352"/>
                  <a:pt x="703782" y="165484"/>
                  <a:pt x="712695" y="236787"/>
                </a:cubicBezTo>
                <a:cubicBezTo>
                  <a:pt x="717280" y="273464"/>
                  <a:pt x="703345" y="337114"/>
                  <a:pt x="739589" y="344363"/>
                </a:cubicBezTo>
                <a:cubicBezTo>
                  <a:pt x="762001" y="348845"/>
                  <a:pt x="784651" y="352267"/>
                  <a:pt x="806824" y="357810"/>
                </a:cubicBezTo>
                <a:cubicBezTo>
                  <a:pt x="911111" y="383882"/>
                  <a:pt x="758102" y="365378"/>
                  <a:pt x="954742" y="398151"/>
                </a:cubicBezTo>
                <a:cubicBezTo>
                  <a:pt x="999176" y="405557"/>
                  <a:pt x="1044389" y="407116"/>
                  <a:pt x="1089212" y="411598"/>
                </a:cubicBezTo>
                <a:cubicBezTo>
                  <a:pt x="1102659" y="416080"/>
                  <a:pt x="1119530" y="415022"/>
                  <a:pt x="1129553" y="425045"/>
                </a:cubicBezTo>
                <a:cubicBezTo>
                  <a:pt x="1139576" y="435068"/>
                  <a:pt x="1139562" y="451636"/>
                  <a:pt x="1143000" y="465387"/>
                </a:cubicBezTo>
                <a:cubicBezTo>
                  <a:pt x="1148543" y="487560"/>
                  <a:pt x="1151965" y="510210"/>
                  <a:pt x="1156447" y="532622"/>
                </a:cubicBezTo>
                <a:cubicBezTo>
                  <a:pt x="1151965" y="555034"/>
                  <a:pt x="1157032" y="581816"/>
                  <a:pt x="1143000" y="599857"/>
                </a:cubicBezTo>
                <a:cubicBezTo>
                  <a:pt x="1123136" y="625397"/>
                  <a:pt x="1061140" y="659259"/>
                  <a:pt x="1021977" y="667092"/>
                </a:cubicBezTo>
                <a:cubicBezTo>
                  <a:pt x="990897" y="673308"/>
                  <a:pt x="959031" y="674870"/>
                  <a:pt x="927847" y="680540"/>
                </a:cubicBezTo>
                <a:cubicBezTo>
                  <a:pt x="909664" y="683846"/>
                  <a:pt x="892397" y="691695"/>
                  <a:pt x="874059" y="693987"/>
                </a:cubicBezTo>
                <a:cubicBezTo>
                  <a:pt x="820501" y="700682"/>
                  <a:pt x="766426" y="702317"/>
                  <a:pt x="712695" y="707434"/>
                </a:cubicBezTo>
                <a:cubicBezTo>
                  <a:pt x="672288" y="711282"/>
                  <a:pt x="632094" y="717206"/>
                  <a:pt x="591671" y="720881"/>
                </a:cubicBezTo>
                <a:cubicBezTo>
                  <a:pt x="533468" y="726172"/>
                  <a:pt x="475130" y="729846"/>
                  <a:pt x="416859" y="734328"/>
                </a:cubicBezTo>
                <a:cubicBezTo>
                  <a:pt x="372036" y="729846"/>
                  <a:pt x="326664" y="729183"/>
                  <a:pt x="282389" y="720881"/>
                </a:cubicBezTo>
                <a:cubicBezTo>
                  <a:pt x="254525" y="715657"/>
                  <a:pt x="229505" y="699547"/>
                  <a:pt x="201706" y="693987"/>
                </a:cubicBezTo>
                <a:lnTo>
                  <a:pt x="134471" y="680540"/>
                </a:lnTo>
                <a:cubicBezTo>
                  <a:pt x="125506" y="671575"/>
                  <a:pt x="117720" y="661252"/>
                  <a:pt x="107577" y="653645"/>
                </a:cubicBezTo>
                <a:cubicBezTo>
                  <a:pt x="-14073" y="562406"/>
                  <a:pt x="61683" y="634643"/>
                  <a:pt x="0" y="572963"/>
                </a:cubicBezTo>
                <a:cubicBezTo>
                  <a:pt x="4482" y="541587"/>
                  <a:pt x="3424" y="508902"/>
                  <a:pt x="13447" y="478834"/>
                </a:cubicBezTo>
                <a:cubicBezTo>
                  <a:pt x="18135" y="464770"/>
                  <a:pt x="72669" y="428050"/>
                  <a:pt x="80683" y="425045"/>
                </a:cubicBezTo>
                <a:cubicBezTo>
                  <a:pt x="102083" y="417020"/>
                  <a:pt x="125431" y="415687"/>
                  <a:pt x="147918" y="411598"/>
                </a:cubicBezTo>
                <a:cubicBezTo>
                  <a:pt x="242769" y="394352"/>
                  <a:pt x="240012" y="396883"/>
                  <a:pt x="349624" y="384704"/>
                </a:cubicBezTo>
                <a:cubicBezTo>
                  <a:pt x="363071" y="380222"/>
                  <a:pt x="383626" y="383935"/>
                  <a:pt x="389965" y="371257"/>
                </a:cubicBezTo>
                <a:cubicBezTo>
                  <a:pt x="396304" y="358579"/>
                  <a:pt x="376518" y="345090"/>
                  <a:pt x="376518" y="330916"/>
                </a:cubicBezTo>
                <a:cubicBezTo>
                  <a:pt x="376518" y="281407"/>
                  <a:pt x="385039" y="232262"/>
                  <a:pt x="389965" y="182998"/>
                </a:cubicBezTo>
                <a:cubicBezTo>
                  <a:pt x="403907" y="43578"/>
                  <a:pt x="412377" y="70940"/>
                  <a:pt x="416859" y="485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6"/>
          <p:cNvSpPr/>
          <p:nvPr/>
        </p:nvSpPr>
        <p:spPr>
          <a:xfrm>
            <a:off x="6467400" y="1281240"/>
            <a:ext cx="1185840" cy="604800"/>
          </a:xfrm>
          <a:custGeom>
            <a:avLst/>
            <a:gdLst/>
            <a:ahLst/>
            <a:rect l="l" t="t" r="r" b="b"/>
            <a:pathLst>
              <a:path w="1185226" h="605118">
                <a:moveTo>
                  <a:pt x="430306" y="80683"/>
                </a:moveTo>
                <a:lnTo>
                  <a:pt x="430306" y="80683"/>
                </a:lnTo>
                <a:cubicBezTo>
                  <a:pt x="412377" y="116542"/>
                  <a:pt x="399509" y="155415"/>
                  <a:pt x="376518" y="188259"/>
                </a:cubicBezTo>
                <a:cubicBezTo>
                  <a:pt x="367250" y="201499"/>
                  <a:pt x="350632" y="207925"/>
                  <a:pt x="336177" y="215153"/>
                </a:cubicBezTo>
                <a:cubicBezTo>
                  <a:pt x="301283" y="232600"/>
                  <a:pt x="249584" y="235161"/>
                  <a:pt x="215153" y="242047"/>
                </a:cubicBezTo>
                <a:cubicBezTo>
                  <a:pt x="197031" y="245671"/>
                  <a:pt x="179294" y="251012"/>
                  <a:pt x="161365" y="255494"/>
                </a:cubicBezTo>
                <a:cubicBezTo>
                  <a:pt x="152400" y="264459"/>
                  <a:pt x="146124" y="277395"/>
                  <a:pt x="134471" y="282389"/>
                </a:cubicBezTo>
                <a:cubicBezTo>
                  <a:pt x="113464" y="291392"/>
                  <a:pt x="85277" y="281804"/>
                  <a:pt x="67236" y="295836"/>
                </a:cubicBezTo>
                <a:cubicBezTo>
                  <a:pt x="25620" y="328203"/>
                  <a:pt x="14882" y="372213"/>
                  <a:pt x="0" y="416859"/>
                </a:cubicBezTo>
                <a:cubicBezTo>
                  <a:pt x="4482" y="457200"/>
                  <a:pt x="611" y="499376"/>
                  <a:pt x="13447" y="537883"/>
                </a:cubicBezTo>
                <a:cubicBezTo>
                  <a:pt x="19461" y="555924"/>
                  <a:pt x="37966" y="567675"/>
                  <a:pt x="53789" y="578224"/>
                </a:cubicBezTo>
                <a:cubicBezTo>
                  <a:pt x="71510" y="590038"/>
                  <a:pt x="151666" y="603178"/>
                  <a:pt x="161365" y="605118"/>
                </a:cubicBezTo>
                <a:cubicBezTo>
                  <a:pt x="286871" y="600636"/>
                  <a:pt x="412542" y="599505"/>
                  <a:pt x="537883" y="591671"/>
                </a:cubicBezTo>
                <a:cubicBezTo>
                  <a:pt x="556328" y="590518"/>
                  <a:pt x="573630" y="582233"/>
                  <a:pt x="591671" y="578224"/>
                </a:cubicBezTo>
                <a:cubicBezTo>
                  <a:pt x="721471" y="549379"/>
                  <a:pt x="593619" y="580524"/>
                  <a:pt x="739589" y="551330"/>
                </a:cubicBezTo>
                <a:cubicBezTo>
                  <a:pt x="780112" y="543226"/>
                  <a:pt x="819506" y="528688"/>
                  <a:pt x="860612" y="524436"/>
                </a:cubicBezTo>
                <a:cubicBezTo>
                  <a:pt x="949895" y="515200"/>
                  <a:pt x="1039906" y="515471"/>
                  <a:pt x="1129553" y="510989"/>
                </a:cubicBezTo>
                <a:cubicBezTo>
                  <a:pt x="1143000" y="502024"/>
                  <a:pt x="1159798" y="496714"/>
                  <a:pt x="1169894" y="484094"/>
                </a:cubicBezTo>
                <a:cubicBezTo>
                  <a:pt x="1178749" y="473026"/>
                  <a:pt x="1184086" y="457908"/>
                  <a:pt x="1183341" y="443753"/>
                </a:cubicBezTo>
                <a:cubicBezTo>
                  <a:pt x="1171573" y="220163"/>
                  <a:pt x="1221703" y="250352"/>
                  <a:pt x="1116106" y="215153"/>
                </a:cubicBezTo>
                <a:cubicBezTo>
                  <a:pt x="1044388" y="219635"/>
                  <a:pt x="972454" y="221450"/>
                  <a:pt x="900953" y="228600"/>
                </a:cubicBezTo>
                <a:cubicBezTo>
                  <a:pt x="882564" y="230439"/>
                  <a:pt x="865287" y="238423"/>
                  <a:pt x="847165" y="242047"/>
                </a:cubicBezTo>
                <a:cubicBezTo>
                  <a:pt x="820429" y="247394"/>
                  <a:pt x="793377" y="251012"/>
                  <a:pt x="766483" y="255494"/>
                </a:cubicBezTo>
                <a:cubicBezTo>
                  <a:pt x="735106" y="251012"/>
                  <a:pt x="688660" y="269225"/>
                  <a:pt x="672353" y="242047"/>
                </a:cubicBezTo>
                <a:cubicBezTo>
                  <a:pt x="653051" y="209878"/>
                  <a:pt x="684947" y="123582"/>
                  <a:pt x="699247" y="80683"/>
                </a:cubicBezTo>
                <a:cubicBezTo>
                  <a:pt x="690282" y="67236"/>
                  <a:pt x="684973" y="50438"/>
                  <a:pt x="672353" y="40342"/>
                </a:cubicBezTo>
                <a:cubicBezTo>
                  <a:pt x="661285" y="31487"/>
                  <a:pt x="645849" y="29969"/>
                  <a:pt x="632012" y="26894"/>
                </a:cubicBezTo>
                <a:cubicBezTo>
                  <a:pt x="490006" y="-4664"/>
                  <a:pt x="601808" y="30273"/>
                  <a:pt x="510989" y="0"/>
                </a:cubicBezTo>
                <a:cubicBezTo>
                  <a:pt x="396710" y="38092"/>
                  <a:pt x="536043" y="-15034"/>
                  <a:pt x="443753" y="40342"/>
                </a:cubicBezTo>
                <a:cubicBezTo>
                  <a:pt x="399160" y="67099"/>
                  <a:pt x="432547" y="73960"/>
                  <a:pt x="430306" y="80683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7"/>
          <p:cNvSpPr/>
          <p:nvPr/>
        </p:nvSpPr>
        <p:spPr>
          <a:xfrm>
            <a:off x="6924600" y="1089000"/>
            <a:ext cx="163440" cy="93600"/>
          </a:xfrm>
          <a:custGeom>
            <a:avLst/>
            <a:gdLst/>
            <a:ahLst/>
            <a:rect l="l" t="t" r="r" b="b"/>
            <a:pathLst>
              <a:path w="163155" h="94129">
                <a:moveTo>
                  <a:pt x="0" y="13447"/>
                </a:moveTo>
                <a:lnTo>
                  <a:pt x="0" y="13447"/>
                </a:lnTo>
                <a:cubicBezTo>
                  <a:pt x="40341" y="8965"/>
                  <a:pt x="80434" y="0"/>
                  <a:pt x="121024" y="0"/>
                </a:cubicBezTo>
                <a:cubicBezTo>
                  <a:pt x="135198" y="0"/>
                  <a:pt x="155026" y="769"/>
                  <a:pt x="161365" y="13447"/>
                </a:cubicBezTo>
                <a:cubicBezTo>
                  <a:pt x="167704" y="26125"/>
                  <a:pt x="155781" y="41994"/>
                  <a:pt x="147918" y="53788"/>
                </a:cubicBezTo>
                <a:cubicBezTo>
                  <a:pt x="137369" y="69611"/>
                  <a:pt x="121024" y="80682"/>
                  <a:pt x="107577" y="94129"/>
                </a:cubicBezTo>
                <a:cubicBezTo>
                  <a:pt x="-40177" y="77712"/>
                  <a:pt x="17929" y="26894"/>
                  <a:pt x="0" y="1344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"/>
          <p:cNvSpPr/>
          <p:nvPr/>
        </p:nvSpPr>
        <p:spPr>
          <a:xfrm>
            <a:off x="7896240" y="1332000"/>
            <a:ext cx="1139760" cy="430200"/>
          </a:xfrm>
          <a:custGeom>
            <a:avLst/>
            <a:gdLst/>
            <a:ahLst/>
            <a:rect l="l" t="t" r="r" b="b"/>
            <a:pathLst>
              <a:path w="1140729" h="430306">
                <a:moveTo>
                  <a:pt x="360799" y="13447"/>
                </a:moveTo>
                <a:lnTo>
                  <a:pt x="360799" y="13447"/>
                </a:lnTo>
                <a:cubicBezTo>
                  <a:pt x="356317" y="53788"/>
                  <a:pt x="369143" y="100226"/>
                  <a:pt x="347352" y="134470"/>
                </a:cubicBezTo>
                <a:cubicBezTo>
                  <a:pt x="332132" y="158387"/>
                  <a:pt x="294902" y="158798"/>
                  <a:pt x="266670" y="161365"/>
                </a:cubicBezTo>
                <a:cubicBezTo>
                  <a:pt x="87187" y="177682"/>
                  <a:pt x="167764" y="167810"/>
                  <a:pt x="24623" y="188259"/>
                </a:cubicBezTo>
                <a:cubicBezTo>
                  <a:pt x="-2767" y="270428"/>
                  <a:pt x="-18122" y="296448"/>
                  <a:pt x="38070" y="416859"/>
                </a:cubicBezTo>
                <a:cubicBezTo>
                  <a:pt x="47735" y="437570"/>
                  <a:pt x="82893" y="425824"/>
                  <a:pt x="105305" y="430306"/>
                </a:cubicBezTo>
                <a:cubicBezTo>
                  <a:pt x="168058" y="425824"/>
                  <a:pt x="230997" y="423445"/>
                  <a:pt x="293564" y="416859"/>
                </a:cubicBezTo>
                <a:cubicBezTo>
                  <a:pt x="316294" y="414466"/>
                  <a:pt x="338120" y="406247"/>
                  <a:pt x="360799" y="403412"/>
                </a:cubicBezTo>
                <a:cubicBezTo>
                  <a:pt x="409926" y="397271"/>
                  <a:pt x="459411" y="394447"/>
                  <a:pt x="508717" y="389965"/>
                </a:cubicBezTo>
                <a:cubicBezTo>
                  <a:pt x="743949" y="342915"/>
                  <a:pt x="322877" y="423355"/>
                  <a:pt x="965917" y="363070"/>
                </a:cubicBezTo>
                <a:cubicBezTo>
                  <a:pt x="982008" y="361562"/>
                  <a:pt x="991803" y="343404"/>
                  <a:pt x="1006258" y="336176"/>
                </a:cubicBezTo>
                <a:cubicBezTo>
                  <a:pt x="1018936" y="329837"/>
                  <a:pt x="1033921" y="329068"/>
                  <a:pt x="1046599" y="322729"/>
                </a:cubicBezTo>
                <a:cubicBezTo>
                  <a:pt x="1061054" y="315501"/>
                  <a:pt x="1072908" y="303853"/>
                  <a:pt x="1086940" y="295835"/>
                </a:cubicBezTo>
                <a:cubicBezTo>
                  <a:pt x="1104345" y="285890"/>
                  <a:pt x="1122799" y="277906"/>
                  <a:pt x="1140729" y="268941"/>
                </a:cubicBezTo>
                <a:cubicBezTo>
                  <a:pt x="1136246" y="251012"/>
                  <a:pt x="1133770" y="232457"/>
                  <a:pt x="1127281" y="215153"/>
                </a:cubicBezTo>
                <a:cubicBezTo>
                  <a:pt x="1118314" y="191241"/>
                  <a:pt x="1091226" y="142302"/>
                  <a:pt x="1073493" y="121023"/>
                </a:cubicBezTo>
                <a:cubicBezTo>
                  <a:pt x="1061319" y="106414"/>
                  <a:pt x="1046599" y="94129"/>
                  <a:pt x="1033152" y="80682"/>
                </a:cubicBezTo>
                <a:cubicBezTo>
                  <a:pt x="1001776" y="85164"/>
                  <a:pt x="970207" y="88459"/>
                  <a:pt x="939023" y="94129"/>
                </a:cubicBezTo>
                <a:cubicBezTo>
                  <a:pt x="920840" y="97435"/>
                  <a:pt x="902936" y="102265"/>
                  <a:pt x="885234" y="107576"/>
                </a:cubicBezTo>
                <a:cubicBezTo>
                  <a:pt x="858081" y="115722"/>
                  <a:pt x="832616" y="130461"/>
                  <a:pt x="804552" y="134470"/>
                </a:cubicBezTo>
                <a:lnTo>
                  <a:pt x="710423" y="147917"/>
                </a:lnTo>
                <a:cubicBezTo>
                  <a:pt x="692493" y="143435"/>
                  <a:pt x="666143" y="150318"/>
                  <a:pt x="656634" y="134470"/>
                </a:cubicBezTo>
                <a:cubicBezTo>
                  <a:pt x="647125" y="118623"/>
                  <a:pt x="670081" y="99163"/>
                  <a:pt x="670081" y="80682"/>
                </a:cubicBezTo>
                <a:cubicBezTo>
                  <a:pt x="670081" y="53417"/>
                  <a:pt x="661116" y="26894"/>
                  <a:pt x="656634" y="0"/>
                </a:cubicBezTo>
                <a:cubicBezTo>
                  <a:pt x="597442" y="9865"/>
                  <a:pt x="527277" y="22687"/>
                  <a:pt x="468376" y="26894"/>
                </a:cubicBezTo>
                <a:cubicBezTo>
                  <a:pt x="441550" y="28810"/>
                  <a:pt x="378729" y="15688"/>
                  <a:pt x="360799" y="1344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9"/>
          <p:cNvSpPr/>
          <p:nvPr/>
        </p:nvSpPr>
        <p:spPr>
          <a:xfrm>
            <a:off x="4502160" y="3873600"/>
            <a:ext cx="1252440" cy="422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阿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929040" y="-42696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xī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249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321720" y="8571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东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西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西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9240" y="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"/>
          <p:cNvSpPr/>
          <p:nvPr/>
        </p:nvSpPr>
        <p:spPr>
          <a:xfrm>
            <a:off x="1988640" y="3165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515160" y="3173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4961160" y="3146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6376320" y="3146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7792560" y="31179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"/>
          <p:cNvSpPr/>
          <p:nvPr/>
        </p:nvSpPr>
        <p:spPr>
          <a:xfrm>
            <a:off x="3527640" y="3146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7"/>
          <p:cNvSpPr/>
          <p:nvPr/>
        </p:nvSpPr>
        <p:spPr>
          <a:xfrm>
            <a:off x="295200" y="3645000"/>
            <a:ext cx="1278000" cy="846000"/>
          </a:xfrm>
          <a:custGeom>
            <a:avLst/>
            <a:gdLst/>
            <a:ahLst/>
            <a:rect l="l" t="t" r="r" b="b"/>
            <a:pathLst>
              <a:path w="1277471" h="847165">
                <a:moveTo>
                  <a:pt x="847165" y="13447"/>
                </a:moveTo>
                <a:lnTo>
                  <a:pt x="847165" y="13447"/>
                </a:lnTo>
                <a:cubicBezTo>
                  <a:pt x="766483" y="17929"/>
                  <a:pt x="685687" y="20696"/>
                  <a:pt x="605118" y="26894"/>
                </a:cubicBezTo>
                <a:cubicBezTo>
                  <a:pt x="510841" y="34146"/>
                  <a:pt x="322730" y="53788"/>
                  <a:pt x="322730" y="53788"/>
                </a:cubicBezTo>
                <a:cubicBezTo>
                  <a:pt x="313032" y="55728"/>
                  <a:pt x="232874" y="68868"/>
                  <a:pt x="215153" y="80682"/>
                </a:cubicBezTo>
                <a:cubicBezTo>
                  <a:pt x="199330" y="91231"/>
                  <a:pt x="188259" y="107576"/>
                  <a:pt x="174812" y="121023"/>
                </a:cubicBezTo>
                <a:cubicBezTo>
                  <a:pt x="170330" y="134470"/>
                  <a:pt x="168398" y="149058"/>
                  <a:pt x="161365" y="161365"/>
                </a:cubicBezTo>
                <a:cubicBezTo>
                  <a:pt x="138365" y="201615"/>
                  <a:pt x="112475" y="223702"/>
                  <a:pt x="80683" y="255494"/>
                </a:cubicBezTo>
                <a:cubicBezTo>
                  <a:pt x="71718" y="282388"/>
                  <a:pt x="64318" y="309855"/>
                  <a:pt x="53789" y="336176"/>
                </a:cubicBezTo>
                <a:cubicBezTo>
                  <a:pt x="44824" y="358588"/>
                  <a:pt x="34527" y="380512"/>
                  <a:pt x="26894" y="403412"/>
                </a:cubicBezTo>
                <a:cubicBezTo>
                  <a:pt x="17399" y="431896"/>
                  <a:pt x="5329" y="497792"/>
                  <a:pt x="0" y="524435"/>
                </a:cubicBezTo>
                <a:cubicBezTo>
                  <a:pt x="4482" y="587188"/>
                  <a:pt x="-1812" y="651660"/>
                  <a:pt x="13447" y="712694"/>
                </a:cubicBezTo>
                <a:cubicBezTo>
                  <a:pt x="17367" y="728373"/>
                  <a:pt x="38041" y="735954"/>
                  <a:pt x="53789" y="739588"/>
                </a:cubicBezTo>
                <a:cubicBezTo>
                  <a:pt x="97682" y="749717"/>
                  <a:pt x="143436" y="748553"/>
                  <a:pt x="188259" y="753035"/>
                </a:cubicBezTo>
                <a:cubicBezTo>
                  <a:pt x="251012" y="766482"/>
                  <a:pt x="313495" y="781256"/>
                  <a:pt x="376518" y="793376"/>
                </a:cubicBezTo>
                <a:cubicBezTo>
                  <a:pt x="430067" y="803674"/>
                  <a:pt x="486151" y="803027"/>
                  <a:pt x="537883" y="820271"/>
                </a:cubicBezTo>
                <a:cubicBezTo>
                  <a:pt x="551330" y="824753"/>
                  <a:pt x="564174" y="831845"/>
                  <a:pt x="578224" y="833718"/>
                </a:cubicBezTo>
                <a:cubicBezTo>
                  <a:pt x="631725" y="840851"/>
                  <a:pt x="685801" y="842683"/>
                  <a:pt x="739589" y="847165"/>
                </a:cubicBezTo>
                <a:cubicBezTo>
                  <a:pt x="865095" y="838200"/>
                  <a:pt x="993019" y="846381"/>
                  <a:pt x="1116106" y="820271"/>
                </a:cubicBezTo>
                <a:cubicBezTo>
                  <a:pt x="1147111" y="813694"/>
                  <a:pt x="1183341" y="753035"/>
                  <a:pt x="1183341" y="753035"/>
                </a:cubicBezTo>
                <a:cubicBezTo>
                  <a:pt x="1217145" y="651630"/>
                  <a:pt x="1171544" y="776631"/>
                  <a:pt x="1223683" y="672353"/>
                </a:cubicBezTo>
                <a:cubicBezTo>
                  <a:pt x="1279356" y="561007"/>
                  <a:pt x="1186950" y="707283"/>
                  <a:pt x="1264024" y="591671"/>
                </a:cubicBezTo>
                <a:cubicBezTo>
                  <a:pt x="1268506" y="546847"/>
                  <a:pt x="1277471" y="502247"/>
                  <a:pt x="1277471" y="457200"/>
                </a:cubicBezTo>
                <a:cubicBezTo>
                  <a:pt x="1277471" y="367441"/>
                  <a:pt x="1275633" y="277264"/>
                  <a:pt x="1264024" y="188259"/>
                </a:cubicBezTo>
                <a:cubicBezTo>
                  <a:pt x="1261934" y="172233"/>
                  <a:pt x="1247226" y="160538"/>
                  <a:pt x="1237130" y="147918"/>
                </a:cubicBezTo>
                <a:cubicBezTo>
                  <a:pt x="1206854" y="110073"/>
                  <a:pt x="1204511" y="121594"/>
                  <a:pt x="1156447" y="94129"/>
                </a:cubicBezTo>
                <a:cubicBezTo>
                  <a:pt x="1142415" y="86111"/>
                  <a:pt x="1130561" y="74463"/>
                  <a:pt x="1116106" y="67235"/>
                </a:cubicBezTo>
                <a:cubicBezTo>
                  <a:pt x="1103428" y="60896"/>
                  <a:pt x="1089881" y="55071"/>
                  <a:pt x="1075765" y="53788"/>
                </a:cubicBezTo>
                <a:cubicBezTo>
                  <a:pt x="990833" y="46067"/>
                  <a:pt x="905436" y="44823"/>
                  <a:pt x="820271" y="40341"/>
                </a:cubicBezTo>
                <a:lnTo>
                  <a:pt x="793377" y="0"/>
                </a:lnTo>
                <a:lnTo>
                  <a:pt x="726141" y="26894"/>
                </a:lnTo>
                <a:lnTo>
                  <a:pt x="847165" y="1344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0"/>
          <p:cNvSpPr/>
          <p:nvPr/>
        </p:nvSpPr>
        <p:spPr>
          <a:xfrm>
            <a:off x="2057400" y="3630600"/>
            <a:ext cx="1011240" cy="928800"/>
          </a:xfrm>
          <a:custGeom>
            <a:avLst/>
            <a:gdLst/>
            <a:ahLst/>
            <a:rect l="l" t="t" r="r" b="b"/>
            <a:pathLst>
              <a:path w="1011533" h="927847">
                <a:moveTo>
                  <a:pt x="94286" y="40341"/>
                </a:moveTo>
                <a:lnTo>
                  <a:pt x="94286" y="40341"/>
                </a:lnTo>
                <a:cubicBezTo>
                  <a:pt x="366937" y="10047"/>
                  <a:pt x="32315" y="40341"/>
                  <a:pt x="443910" y="40341"/>
                </a:cubicBezTo>
                <a:cubicBezTo>
                  <a:pt x="488957" y="40341"/>
                  <a:pt x="533557" y="31376"/>
                  <a:pt x="578381" y="26894"/>
                </a:cubicBezTo>
                <a:cubicBezTo>
                  <a:pt x="596310" y="22412"/>
                  <a:pt x="614399" y="18524"/>
                  <a:pt x="632169" y="13447"/>
                </a:cubicBezTo>
                <a:cubicBezTo>
                  <a:pt x="645798" y="9553"/>
                  <a:pt x="658336" y="0"/>
                  <a:pt x="672510" y="0"/>
                </a:cubicBezTo>
                <a:cubicBezTo>
                  <a:pt x="717557" y="0"/>
                  <a:pt x="762157" y="8965"/>
                  <a:pt x="806981" y="13447"/>
                </a:cubicBezTo>
                <a:cubicBezTo>
                  <a:pt x="829393" y="17929"/>
                  <a:pt x="852533" y="19666"/>
                  <a:pt x="874216" y="26894"/>
                </a:cubicBezTo>
                <a:cubicBezTo>
                  <a:pt x="908338" y="38268"/>
                  <a:pt x="938835" y="61008"/>
                  <a:pt x="968345" y="80682"/>
                </a:cubicBezTo>
                <a:cubicBezTo>
                  <a:pt x="1024198" y="304093"/>
                  <a:pt x="1027636" y="297653"/>
                  <a:pt x="968345" y="712694"/>
                </a:cubicBezTo>
                <a:cubicBezTo>
                  <a:pt x="962966" y="750346"/>
                  <a:pt x="914557" y="766482"/>
                  <a:pt x="887663" y="793376"/>
                </a:cubicBezTo>
                <a:cubicBezTo>
                  <a:pt x="863430" y="817609"/>
                  <a:pt x="839745" y="846571"/>
                  <a:pt x="806981" y="860612"/>
                </a:cubicBezTo>
                <a:cubicBezTo>
                  <a:pt x="789994" y="867892"/>
                  <a:pt x="771122" y="869577"/>
                  <a:pt x="753192" y="874059"/>
                </a:cubicBezTo>
                <a:cubicBezTo>
                  <a:pt x="739745" y="883024"/>
                  <a:pt x="728598" y="897319"/>
                  <a:pt x="712851" y="900953"/>
                </a:cubicBezTo>
                <a:cubicBezTo>
                  <a:pt x="668958" y="911082"/>
                  <a:pt x="622904" y="907550"/>
                  <a:pt x="578381" y="914400"/>
                </a:cubicBezTo>
                <a:cubicBezTo>
                  <a:pt x="564371" y="916555"/>
                  <a:pt x="551486" y="923365"/>
                  <a:pt x="538039" y="927847"/>
                </a:cubicBezTo>
                <a:cubicBezTo>
                  <a:pt x="430463" y="923365"/>
                  <a:pt x="322321" y="926290"/>
                  <a:pt x="215310" y="914400"/>
                </a:cubicBezTo>
                <a:cubicBezTo>
                  <a:pt x="199248" y="912615"/>
                  <a:pt x="187132" y="898148"/>
                  <a:pt x="174969" y="887506"/>
                </a:cubicBezTo>
                <a:cubicBezTo>
                  <a:pt x="151116" y="866634"/>
                  <a:pt x="107733" y="820270"/>
                  <a:pt x="107733" y="820270"/>
                </a:cubicBezTo>
                <a:cubicBezTo>
                  <a:pt x="98768" y="793376"/>
                  <a:pt x="87715" y="767090"/>
                  <a:pt x="80839" y="739588"/>
                </a:cubicBezTo>
                <a:cubicBezTo>
                  <a:pt x="63954" y="672049"/>
                  <a:pt x="73236" y="703333"/>
                  <a:pt x="53945" y="645459"/>
                </a:cubicBezTo>
                <a:cubicBezTo>
                  <a:pt x="60640" y="558424"/>
                  <a:pt x="81620" y="412673"/>
                  <a:pt x="53945" y="322729"/>
                </a:cubicBezTo>
                <a:cubicBezTo>
                  <a:pt x="49192" y="307282"/>
                  <a:pt x="27051" y="304800"/>
                  <a:pt x="13604" y="295835"/>
                </a:cubicBezTo>
                <a:cubicBezTo>
                  <a:pt x="9122" y="282388"/>
                  <a:pt x="-1408" y="269582"/>
                  <a:pt x="157" y="255494"/>
                </a:cubicBezTo>
                <a:cubicBezTo>
                  <a:pt x="7050" y="193454"/>
                  <a:pt x="24457" y="170250"/>
                  <a:pt x="67392" y="134470"/>
                </a:cubicBezTo>
                <a:cubicBezTo>
                  <a:pt x="109326" y="99524"/>
                  <a:pt x="103331" y="119803"/>
                  <a:pt x="134628" y="80682"/>
                </a:cubicBezTo>
                <a:cubicBezTo>
                  <a:pt x="144724" y="68062"/>
                  <a:pt x="161522" y="56502"/>
                  <a:pt x="161522" y="40341"/>
                </a:cubicBezTo>
                <a:lnTo>
                  <a:pt x="94286" y="4034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2"/>
          <p:cNvSpPr/>
          <p:nvPr/>
        </p:nvSpPr>
        <p:spPr>
          <a:xfrm>
            <a:off x="3713040" y="3603600"/>
            <a:ext cx="414360" cy="233280"/>
          </a:xfrm>
          <a:custGeom>
            <a:avLst/>
            <a:gdLst/>
            <a:ahLst/>
            <a:rect l="l" t="t" r="r" b="b"/>
            <a:pathLst>
              <a:path w="414785" h="232775">
                <a:moveTo>
                  <a:pt x="11373" y="40724"/>
                </a:moveTo>
                <a:lnTo>
                  <a:pt x="11373" y="40724"/>
                </a:lnTo>
                <a:cubicBezTo>
                  <a:pt x="83091" y="36242"/>
                  <a:pt x="155548" y="38484"/>
                  <a:pt x="226526" y="27277"/>
                </a:cubicBezTo>
                <a:cubicBezTo>
                  <a:pt x="242490" y="24756"/>
                  <a:pt x="250786" y="1991"/>
                  <a:pt x="266867" y="383"/>
                </a:cubicBezTo>
                <a:cubicBezTo>
                  <a:pt x="301283" y="-3059"/>
                  <a:pt x="375734" y="17514"/>
                  <a:pt x="414785" y="27277"/>
                </a:cubicBezTo>
                <a:lnTo>
                  <a:pt x="387891" y="107959"/>
                </a:lnTo>
                <a:cubicBezTo>
                  <a:pt x="383409" y="121406"/>
                  <a:pt x="386238" y="140437"/>
                  <a:pt x="374444" y="148300"/>
                </a:cubicBezTo>
                <a:cubicBezTo>
                  <a:pt x="338635" y="172173"/>
                  <a:pt x="299576" y="208435"/>
                  <a:pt x="253420" y="215536"/>
                </a:cubicBezTo>
                <a:cubicBezTo>
                  <a:pt x="208897" y="222386"/>
                  <a:pt x="163773" y="224501"/>
                  <a:pt x="118950" y="228983"/>
                </a:cubicBezTo>
                <a:cubicBezTo>
                  <a:pt x="83091" y="224501"/>
                  <a:pt x="28506" y="247354"/>
                  <a:pt x="11373" y="215536"/>
                </a:cubicBezTo>
                <a:cubicBezTo>
                  <a:pt x="-14217" y="168013"/>
                  <a:pt x="11373" y="69859"/>
                  <a:pt x="11373" y="40724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3"/>
          <p:cNvSpPr/>
          <p:nvPr/>
        </p:nvSpPr>
        <p:spPr>
          <a:xfrm>
            <a:off x="3643200" y="3886200"/>
            <a:ext cx="567000" cy="604800"/>
          </a:xfrm>
          <a:custGeom>
            <a:avLst/>
            <a:gdLst/>
            <a:ahLst/>
            <a:rect l="l" t="t" r="r" b="b"/>
            <a:pathLst>
              <a:path w="565975" h="309282">
                <a:moveTo>
                  <a:pt x="67711" y="309282"/>
                </a:moveTo>
                <a:lnTo>
                  <a:pt x="67711" y="309282"/>
                </a:lnTo>
                <a:cubicBezTo>
                  <a:pt x="112535" y="300317"/>
                  <a:pt x="158229" y="294946"/>
                  <a:pt x="202182" y="282388"/>
                </a:cubicBezTo>
                <a:cubicBezTo>
                  <a:pt x="221456" y="276881"/>
                  <a:pt x="236093" y="258087"/>
                  <a:pt x="255970" y="255494"/>
                </a:cubicBezTo>
                <a:cubicBezTo>
                  <a:pt x="340536" y="244464"/>
                  <a:pt x="426299" y="246529"/>
                  <a:pt x="511464" y="242047"/>
                </a:cubicBezTo>
                <a:cubicBezTo>
                  <a:pt x="524911" y="233082"/>
                  <a:pt x="541709" y="227773"/>
                  <a:pt x="551805" y="215153"/>
                </a:cubicBezTo>
                <a:cubicBezTo>
                  <a:pt x="577282" y="183307"/>
                  <a:pt x="562770" y="102611"/>
                  <a:pt x="551805" y="80682"/>
                </a:cubicBezTo>
                <a:cubicBezTo>
                  <a:pt x="545466" y="68004"/>
                  <a:pt x="523855" y="74119"/>
                  <a:pt x="511464" y="67235"/>
                </a:cubicBezTo>
                <a:cubicBezTo>
                  <a:pt x="372750" y="-9828"/>
                  <a:pt x="481723" y="30427"/>
                  <a:pt x="390441" y="0"/>
                </a:cubicBezTo>
                <a:cubicBezTo>
                  <a:pt x="354582" y="8965"/>
                  <a:pt x="319374" y="21129"/>
                  <a:pt x="282864" y="26894"/>
                </a:cubicBezTo>
                <a:cubicBezTo>
                  <a:pt x="233961" y="34616"/>
                  <a:pt x="184153" y="34874"/>
                  <a:pt x="134947" y="40341"/>
                </a:cubicBezTo>
                <a:cubicBezTo>
                  <a:pt x="103446" y="43841"/>
                  <a:pt x="72194" y="49306"/>
                  <a:pt x="40817" y="53788"/>
                </a:cubicBezTo>
                <a:cubicBezTo>
                  <a:pt x="36335" y="80682"/>
                  <a:pt x="35205" y="108356"/>
                  <a:pt x="27370" y="134471"/>
                </a:cubicBezTo>
                <a:cubicBezTo>
                  <a:pt x="21610" y="153671"/>
                  <a:pt x="2141" y="168283"/>
                  <a:pt x="476" y="188259"/>
                </a:cubicBezTo>
                <a:cubicBezTo>
                  <a:pt x="-2525" y="224272"/>
                  <a:pt x="9441" y="259976"/>
                  <a:pt x="13923" y="295835"/>
                </a:cubicBezTo>
                <a:lnTo>
                  <a:pt x="67711" y="30928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>
            <a:off x="5378400" y="3589200"/>
            <a:ext cx="147600" cy="216000"/>
          </a:xfrm>
          <a:custGeom>
            <a:avLst/>
            <a:gdLst/>
            <a:ahLst/>
            <a:rect l="l" t="t" r="r" b="b"/>
            <a:pathLst>
              <a:path w="147917" h="215483">
                <a:moveTo>
                  <a:pt x="0" y="40671"/>
                </a:moveTo>
                <a:lnTo>
                  <a:pt x="0" y="40671"/>
                </a:lnTo>
                <a:cubicBezTo>
                  <a:pt x="40341" y="27224"/>
                  <a:pt x="78674" y="-3520"/>
                  <a:pt x="121023" y="330"/>
                </a:cubicBezTo>
                <a:cubicBezTo>
                  <a:pt x="140986" y="2145"/>
                  <a:pt x="147917" y="34072"/>
                  <a:pt x="147917" y="54118"/>
                </a:cubicBezTo>
                <a:cubicBezTo>
                  <a:pt x="147917" y="119094"/>
                  <a:pt x="136879" y="154388"/>
                  <a:pt x="94129" y="188589"/>
                </a:cubicBezTo>
                <a:cubicBezTo>
                  <a:pt x="81509" y="198685"/>
                  <a:pt x="67235" y="206518"/>
                  <a:pt x="53788" y="215483"/>
                </a:cubicBezTo>
                <a:cubicBezTo>
                  <a:pt x="40341" y="211001"/>
                  <a:pt x="17615" y="215584"/>
                  <a:pt x="13447" y="202036"/>
                </a:cubicBezTo>
                <a:cubicBezTo>
                  <a:pt x="-2426" y="150448"/>
                  <a:pt x="2241" y="67565"/>
                  <a:pt x="0" y="40671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5"/>
          <p:cNvSpPr/>
          <p:nvPr/>
        </p:nvSpPr>
        <p:spPr>
          <a:xfrm>
            <a:off x="5029200" y="3886200"/>
            <a:ext cx="582480" cy="471600"/>
          </a:xfrm>
          <a:custGeom>
            <a:avLst/>
            <a:gdLst/>
            <a:ahLst/>
            <a:rect l="l" t="t" r="r" b="b"/>
            <a:pathLst>
              <a:path w="582704" h="470753">
                <a:moveTo>
                  <a:pt x="336176" y="0"/>
                </a:moveTo>
                <a:lnTo>
                  <a:pt x="336176" y="0"/>
                </a:lnTo>
                <a:cubicBezTo>
                  <a:pt x="318247" y="35859"/>
                  <a:pt x="298978" y="71078"/>
                  <a:pt x="282388" y="107576"/>
                </a:cubicBezTo>
                <a:cubicBezTo>
                  <a:pt x="276523" y="120480"/>
                  <a:pt x="276804" y="136124"/>
                  <a:pt x="268941" y="147918"/>
                </a:cubicBezTo>
                <a:cubicBezTo>
                  <a:pt x="239478" y="192114"/>
                  <a:pt x="225467" y="184146"/>
                  <a:pt x="188259" y="215153"/>
                </a:cubicBezTo>
                <a:cubicBezTo>
                  <a:pt x="121107" y="271113"/>
                  <a:pt x="178472" y="245310"/>
                  <a:pt x="107576" y="268941"/>
                </a:cubicBezTo>
                <a:cubicBezTo>
                  <a:pt x="33038" y="318633"/>
                  <a:pt x="91994" y="267404"/>
                  <a:pt x="53788" y="336176"/>
                </a:cubicBezTo>
                <a:cubicBezTo>
                  <a:pt x="38091" y="364431"/>
                  <a:pt x="0" y="416859"/>
                  <a:pt x="0" y="416859"/>
                </a:cubicBezTo>
                <a:cubicBezTo>
                  <a:pt x="4482" y="430306"/>
                  <a:pt x="0" y="452718"/>
                  <a:pt x="13447" y="457200"/>
                </a:cubicBezTo>
                <a:cubicBezTo>
                  <a:pt x="60416" y="472856"/>
                  <a:pt x="111856" y="470647"/>
                  <a:pt x="161365" y="470647"/>
                </a:cubicBezTo>
                <a:cubicBezTo>
                  <a:pt x="277992" y="470647"/>
                  <a:pt x="394447" y="461682"/>
                  <a:pt x="510988" y="457200"/>
                </a:cubicBezTo>
                <a:cubicBezTo>
                  <a:pt x="519953" y="443753"/>
                  <a:pt x="530654" y="431314"/>
                  <a:pt x="537882" y="416859"/>
                </a:cubicBezTo>
                <a:cubicBezTo>
                  <a:pt x="544221" y="404181"/>
                  <a:pt x="547891" y="390269"/>
                  <a:pt x="551329" y="376518"/>
                </a:cubicBezTo>
                <a:cubicBezTo>
                  <a:pt x="568454" y="308018"/>
                  <a:pt x="569856" y="263561"/>
                  <a:pt x="578224" y="188259"/>
                </a:cubicBezTo>
                <a:cubicBezTo>
                  <a:pt x="573741" y="138953"/>
                  <a:pt x="598231" y="76837"/>
                  <a:pt x="564776" y="40341"/>
                </a:cubicBezTo>
                <a:cubicBezTo>
                  <a:pt x="534337" y="7135"/>
                  <a:pt x="474829" y="33744"/>
                  <a:pt x="430306" y="26894"/>
                </a:cubicBezTo>
                <a:cubicBezTo>
                  <a:pt x="296833" y="6360"/>
                  <a:pt x="351864" y="4482"/>
                  <a:pt x="336176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6"/>
          <p:cNvSpPr/>
          <p:nvPr/>
        </p:nvSpPr>
        <p:spPr>
          <a:xfrm>
            <a:off x="6494400" y="4121280"/>
            <a:ext cx="552600" cy="222120"/>
          </a:xfrm>
          <a:custGeom>
            <a:avLst/>
            <a:gdLst/>
            <a:ahLst/>
            <a:rect l="l" t="t" r="r" b="b"/>
            <a:pathLst>
              <a:path w="551488" h="121024">
                <a:moveTo>
                  <a:pt x="0" y="53788"/>
                </a:moveTo>
                <a:lnTo>
                  <a:pt x="0" y="53788"/>
                </a:lnTo>
                <a:cubicBezTo>
                  <a:pt x="249874" y="147492"/>
                  <a:pt x="-23539" y="64594"/>
                  <a:pt x="201706" y="80683"/>
                </a:cubicBezTo>
                <a:cubicBezTo>
                  <a:pt x="296550" y="87458"/>
                  <a:pt x="484095" y="121024"/>
                  <a:pt x="484095" y="121024"/>
                </a:cubicBezTo>
                <a:cubicBezTo>
                  <a:pt x="502024" y="116542"/>
                  <a:pt x="523452" y="119122"/>
                  <a:pt x="537883" y="107577"/>
                </a:cubicBezTo>
                <a:cubicBezTo>
                  <a:pt x="559748" y="90085"/>
                  <a:pt x="551876" y="44386"/>
                  <a:pt x="537883" y="26894"/>
                </a:cubicBezTo>
                <a:cubicBezTo>
                  <a:pt x="527787" y="14274"/>
                  <a:pt x="510989" y="8965"/>
                  <a:pt x="497542" y="0"/>
                </a:cubicBezTo>
                <a:cubicBezTo>
                  <a:pt x="400036" y="8125"/>
                  <a:pt x="226473" y="23487"/>
                  <a:pt x="134471" y="26894"/>
                </a:cubicBezTo>
                <a:cubicBezTo>
                  <a:pt x="80720" y="28885"/>
                  <a:pt x="22412" y="49306"/>
                  <a:pt x="0" y="5378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1042920" y="18900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准字音了吗？读通句子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35280" y="206064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鱼   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124000" y="162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995640" y="1628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=2443151993,2085077858&amp;fm=23&amp;gp=0"/>
          <p:cNvPicPr/>
          <p:nvPr/>
        </p:nvPicPr>
        <p:blipFill>
          <a:blip r:embed="rId1"/>
          <a:stretch/>
        </p:blipFill>
        <p:spPr>
          <a:xfrm>
            <a:off x="0" y="357660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708360" y="692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鱼戏莲叶东，鱼戏莲叶西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鱼戏莲叶南，鱼戏莲叶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9280" y="981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鱼戏莲叶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鱼戏莲叶东，鱼戏莲叶西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鱼戏莲叶南，鱼戏莲叶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11280" y="18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朗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227640" y="22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们，我们再来欣赏一下江南的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u=3445922066,1391542417&amp;fm=23&amp;gp=0"/>
          <p:cNvPicPr/>
          <p:nvPr/>
        </p:nvPicPr>
        <p:blipFill>
          <a:blip r:embed="rId1"/>
          <a:stretch/>
        </p:blipFill>
        <p:spPr>
          <a:xfrm>
            <a:off x="539640" y="620640"/>
            <a:ext cx="813780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3_120512125651_1"/>
          <p:cNvPicPr/>
          <p:nvPr/>
        </p:nvPicPr>
        <p:blipFill>
          <a:blip r:embed="rId2"/>
          <a:stretch/>
        </p:blipFill>
        <p:spPr>
          <a:xfrm>
            <a:off x="0" y="260280"/>
            <a:ext cx="8993160" cy="488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1899980_134120220000_2"/>
          <p:cNvPicPr/>
          <p:nvPr/>
        </p:nvPicPr>
        <p:blipFill>
          <a:blip r:embed="rId3"/>
          <a:stretch/>
        </p:blipFill>
        <p:spPr>
          <a:xfrm>
            <a:off x="0" y="189000"/>
            <a:ext cx="9144000" cy="608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userid246388time20110723133145"/>
          <p:cNvPicPr/>
          <p:nvPr/>
        </p:nvPicPr>
        <p:blipFill>
          <a:blip r:embed="rId4"/>
          <a:stretch/>
        </p:blipFill>
        <p:spPr>
          <a:xfrm>
            <a:off x="0" y="18900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200812218249962_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userid170224time2007080508461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u=1273414828,716618135&amp;fm=23&amp;gp=0"/>
          <p:cNvPicPr/>
          <p:nvPr/>
        </p:nvPicPr>
        <p:blipFill>
          <a:blip r:embed="rId1"/>
          <a:stretch/>
        </p:blipFill>
        <p:spPr>
          <a:xfrm>
            <a:off x="4788000" y="3629160"/>
            <a:ext cx="4356000" cy="3089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403280" y="33336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可是采莲蓬的好季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8000" y="1341360"/>
            <a:ext cx="3024360" cy="1915920"/>
            <a:chOff x="1908000" y="1341360"/>
            <a:chExt cx="3024360" cy="1915920"/>
          </a:xfrm>
        </p:grpSpPr>
        <p:sp>
          <p:nvSpPr>
            <p:cNvPr id="76" name="Text Box 7"/>
            <p:cNvSpPr/>
            <p:nvPr/>
          </p:nvSpPr>
          <p:spPr>
            <a:xfrm>
              <a:off x="1908000" y="170028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a04a2"/>
                  </a:solidFill>
                  <a:latin typeface="Arial"/>
                  <a:ea typeface="楷体_GB2312"/>
                </a:rPr>
                <a:t>可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1979280" y="1341360"/>
              <a:ext cx="187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宋体"/>
                </a:rPr>
                <a:t>k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0"/>
          <p:cNvSpPr/>
          <p:nvPr/>
        </p:nvSpPr>
        <p:spPr>
          <a:xfrm>
            <a:off x="324000" y="335772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古人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田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现出荷叶又多又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924360" y="1989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1341360"/>
            <a:ext cx="3166920" cy="1988640"/>
            <a:chOff x="4572000" y="1341360"/>
            <a:chExt cx="3166920" cy="1988640"/>
          </a:xfrm>
        </p:grpSpPr>
        <p:sp>
          <p:nvSpPr>
            <p:cNvPr id="81" name="Text Box 12"/>
            <p:cNvSpPr/>
            <p:nvPr/>
          </p:nvSpPr>
          <p:spPr>
            <a:xfrm>
              <a:off x="4572000" y="1773000"/>
              <a:ext cx="3166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a04a2"/>
                  </a:solidFill>
                  <a:latin typeface="Arial"/>
                  <a:ea typeface="楷体_GB2312"/>
                </a:rPr>
                <a:t>田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4572000" y="1341360"/>
              <a:ext cx="26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宋体"/>
                </a:rPr>
                <a:t>tiá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43160" y="-355680"/>
            <a:ext cx="3648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jiāng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86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7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536280" y="107172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江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0" y="150012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长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江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江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1:59:36Z</dcterms:created>
  <dc:creator/>
  <dc:description/>
  <cp:keywords/>
  <dc:language>en-US</dc:language>
  <cp:lastModifiedBy>微软用户</cp:lastModifiedBy>
  <dcterms:modified xsi:type="dcterms:W3CDTF">2014-03-16T02:58:44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